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17B-8629-407B-998E-26A1C120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707-7EC3-481A-BBFC-9FF64695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252-F846-49F4-8081-8CB2DEA9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DA0-B5E8-4F19-9440-FAFD6A23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A46E-DAB3-440A-8320-1B223BD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113-E1B9-4A24-8D2B-871163B8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153-C6A6-4959-9F8C-2391FC7B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A33B-0193-47FC-8D03-3BE276E2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84F0-4588-4659-B018-06B0ACD4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B58-747B-4489-BA4C-BA76149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9C1-481B-4C8F-917D-5B6A95E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3BE-8020-42E1-BF6D-34E45D5D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A0A-81BC-433D-8676-9D084A3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1014-EC62-49CA-9996-C221F55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3DFA-6905-4495-9305-AF9B6519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92BE-E095-49C2-9CDF-CB25443B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9DF2-8DFA-485F-ABE9-1BB18C9F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27D-BF91-4913-98F0-1BBA5569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7D1-903D-4DCC-855A-3B9931B9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253-AFC9-4A47-A0D2-9438598B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160-2475-434F-824E-C2BDFFE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838-EFAD-4524-9E42-BD17B8A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586-F037-4BCC-B33A-AAE4FDE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A3F-452D-410C-BB2B-46698DE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83D-A575-4D62-9088-E3CD754B2A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647-FD54-4F77-B894-8EC0FBE44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838080"/>
            <a:ext cx="7772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тодика разрабо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разовательной программ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едагога дополнительного образова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410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щеня Е.Г. – методист ЦДО «Дружб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Программа профессионально-ориентированного уровн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едусматривает достижение высоких показателей образованности в какой-либо предметной или практической области, умение видеть проблемы, формулировать задачи и искать средства их реш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товность к освоению программ специального (начального, среднего, высшего)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ополнительные образовательные программы подразделяют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 направленности дополнительного образо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программы научно-технической, спортивно-технической, физкультурно-спортивной, художественно-эстетической, эколого-биологической, военно-патриотической, социально-педагогической, культурологической, естественнонаучной, туристско-краеведческой направленност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 возрастному диапазону учащихс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ограммы для дошкольников (3-7 л.), для учащихся начальной(1-4 кл.), основной(5-8 кл.) и средней школы(9-11 кл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 продолжительности реализаци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одногодичная (краткосрочная), двухгодичная и трёхгодичная(программы средней продолжительности реализации) и программа длительной реализации( от 4 лет и боле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imes New Roman"/>
              </a:rPr>
              <a:t>ПРИМЕРНЫЕ ТРЕБОВАНИЯ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Times New Roman"/>
              </a:rPr>
              <a:t>к программам дополнительного образования де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ложение к письму Департамента молодежной политики, воспитания и социальной поддержки детей Минобрнауки России от 11.12.2006 №06-18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Содержание дополнительных образовательных программ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лжно быть направлено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условий для развития личности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тие мотивации личности к познанию и твор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спечение эмоционального благополучия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общение обучающихся к общечеловеческим ценностя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филактику асоциального пове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условий для социального, культурного и профессионального самоопределения, творческой самореализации личности ребенка, его интеграции  в системе мировой и отечественной культу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остность процесса психического и физического, умственного и духовного развития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крепление психического и физического здоровья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е педагога доп.образования с семь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Структура програм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итульный ли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снительная запи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бно-тематический 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держание изучаемого кур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одическое обеспечение дополнительной образовательной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228600"/>
            <a:ext cx="586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униципальное бюджетное образовательное учрежд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полнительного образования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Центр дополнительного образования детей «Дружб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32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тверждаю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иректор МБОУ ДОД ЦДО«Дружб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_______ Булаева Н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495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РАЗОВАТЕЛЬНАЯ ПРОГРА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Волшебная бумаг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ок реализации программы: 3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растная категория учащихся: 7-13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26708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щеня Елена Григор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й категор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0200" y="589104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овогор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1295280"/>
            <a:ext cx="25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коменд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дагогическим совет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1.01.12 пр. №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01148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3360" rIns="301680" tIns="46800" bIns="0" anchor="ctr">
            <a:spAutoFit/>
          </a:bodyPr>
          <a:p>
            <a:pPr algn="ctr"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Информационная карта 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римерный вариант напис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овательная програм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Волшебная бума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.И.О. педагога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Дещеня Елена Григо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ип программы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модифицирова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ид программы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тегрирова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ровень освоения СО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глубл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олжительность освоения программы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ровень реализаци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чальное и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новное общее 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ояснительная запи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едует раскр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ость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изну (для программ, претендующих называться авторскими), актуальность, педагогическую целесообразн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личительные особенности данной дополнительной образовательной программы от уже существующих образовательных програм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и задачи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раст детей, участвующих в реализации данной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оки реализации дополнительной образовательной программы (продолжительность образовательного процесса, этапы), принципы отбора содержания образ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ы работы с обучающимися и режим занятий (СанПиН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ловия реализации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жидаемые результаты и способы определения их результатив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ы подведения итогов реализации дополнительной образовательной програм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Учебно-тематический план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(по годам обучения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рывает последовательность изучения тем предлагаемого курса и количество часов на каждую из них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яет соотношение учебного времени, отводимого на теоретические и практические за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Оформление УТП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143000"/>
          <a:ext cx="8763120" cy="5477040"/>
        </p:xfrm>
        <a:graphic>
          <a:graphicData uri="http://schemas.openxmlformats.org/drawingml/2006/table">
            <a:tbl>
              <a:tblPr/>
              <a:tblGrid>
                <a:gridCol w="649440"/>
                <a:gridCol w="3376440"/>
                <a:gridCol w="1384200"/>
                <a:gridCol w="1600200"/>
                <a:gridCol w="1752840"/>
              </a:tblGrid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разделов и т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ее кол-во ча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оретическ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кти ческ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разд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разд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Образовательная программ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нормативная модель совместной деятельности педагога и воспитанников, определяющая содержание образования определенного уровня и направленности, последовательность действий и способы достижения поставленной ц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Содержание образов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раткое описание тем (разделов, блоков) в порядке их представления в УТ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оретические свед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нятийный аппарат (тезаурус, глоссарий, ключевые слова, терми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Воспитательный аспе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УМК, формы и методы работы (могут быть отражены в др. разделах программ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жидаемые результаты (компетенция учащихся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лжны зн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лжны ум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Методическое обеспечение программ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разделе программы необходим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числить используемые дидактические материалы (наглядные пособия, демонстрационный, раздаточный материал, инструкционные карты, рабочие тетрад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ть краткую характеристику средств, необходимых для реализации программы: кадровых, материально-технических (оборудование, инструменты и материалы) и п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Методическое обеспечение программ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ставить контрольно-измерительные материалы (анкеты, тесты, контрольные задания, викторины и пр.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ложить разработки занятий, мероприятий, методические рекоменд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метить, какие формы занятий планируется использовать (учебное занятие, интегрированное, экскурсия, круглый стол и пр.), пояснить, чем обусловлен выбор таких фор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ть основные методы организации образовательного проц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Список литератур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 привести два списк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─ для педагогов, другой ─ для воспитанников  (их родителей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ные источники перечисляются в алфавитном порядке и нумеруются. Указывае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втор, название, место издания, издательство, год из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 а п р и м е р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олеченко А.К. Энциклопедия педагогических технологий: Пособие для преподавателей. ─ СПб.: КАРО, 2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Дополнительные образовательные программы подразделяются: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тип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ные (типовые), модифицированные (адаптированные) и авторски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способу организации содержания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узкопрофильные, интегрированные и комплексны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уровню освоения содержания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программы общекультурного, углубленного и профессионально-ориентированного уровне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римерная (типовая)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программа, утвержденная органом управления образованием и рекомендованная в качестве примерной по той или иной образовательной области или направлению деяте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иентирована на достижение обучающимися определенного уровня освоения знаний, умений и навы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Модифицированная (адаптирован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грамма, в основу которой положена примерная программа, измененная с учетом особенностей ОУ, возраста, уровня подготовки и индивидуальных особенностей учащихся, режима и продолжительности освоения содержания образования; диагностика результатов предполагает демонстрацию достижений обучающихся на отчетных концертах, выставках, конкурсах, соревнованиях, конференциях и т.д., при этом важны и количественные показатели сформированности знаний, умений и навы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Авторская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программа, разработанная педагогом или коллективом педагогов и содержащая до 70% нового материала (либо по содержанию предмета, либо по методам, приемам и формам реализации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торская программа должна сопровождаться рецензиями 2-х независимых экспертов, результатами психологической или педагогической диагност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Узкопрофильная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программ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программа, содержание которой составляет одно направление деятельности или одну область научного 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Интегрированная программ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программа, направленная на изучение определенной области знания, а также смежных с ней направлений (реализует один педаго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Комплексная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полагает определенное соединение отдельных областей знания, направлений, видов деятельности, процессов в некое целое (преподавание осуществляют несколько педагогов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система, в основании которой – цель программы, а все составляющие – взаимозависимы и взаимосвяза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таким программам относятся программы школ, студий и т.п. с многоступенчатым обучением и набором разных предметов, объединенных одной концепцией, едиными принципами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Программа общекультурного уровн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едполагает развитие познавательных интересов детей, расширение кругозора, уровня информированности в данной образовательной области, обогащение опыта общения и совместной деятельности в ходе освоения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Программа углубленного уровн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едполагает формирование теоретических знаний и практических навыков, раскрытие творческих способностей личности в избранной области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4:59:09Z</dcterms:created>
  <dc:creator>Tech-GS</dc:creator>
  <dc:description/>
  <dc:language>en-US</dc:language>
  <cp:lastModifiedBy>www.PHILka.RU</cp:lastModifiedBy>
  <dcterms:modified xsi:type="dcterms:W3CDTF">2012-01-24T03:25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