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E0FF-2D48-4FAD-B6A2-531FB893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4A62-2359-4A39-8A7C-DE2056B8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679C-1466-4F90-B84E-25D63C271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4B47-6973-47F7-88DE-1EB1AA0D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AA23-3E7B-4DDD-9449-9BB6DA31F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D575-04B4-46AB-B0F9-8D43FB80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9C2F-4DF3-4BBF-8B3D-940562C6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43AC-9895-462D-AF69-C67A5883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17A3-8648-401C-93A6-A4E3E99C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D6FA-220D-4BE9-BA55-9F6609B8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F080-AD77-4C67-8B9B-4A1A8DA8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73B5-A82D-4745-BD38-AD01107F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9905-7CDC-4A17-8358-21BE878B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2E4F-D416-45B7-9184-B4278B33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07D0-29FA-40E9-B905-58F8195D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FE79-201F-4E8C-A61C-241D4EAF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45F4-6FDF-4B94-A55A-0340B2BEC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DB21-F82F-42DD-B74E-7B07B5DE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D2F6-384D-4F93-81F6-E232E2B3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B508-A383-4110-B5B2-16F13AD8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1D38-447B-4E9B-917E-08CABE4A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6C6E-BF37-4D4C-A844-1474D3F7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1B0C-5FE3-48B4-A253-E19596E3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7010-D25A-418C-A3F3-F95C6FD9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C383-A625-465C-9A2C-CBDBAEBCD9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16A4-B83A-49FF-A07B-AA563136F8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838080"/>
            <a:ext cx="7772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Методика разработ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образовательной программы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педагога дополнительного образования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541008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ещеня Е.Г. – методист ЦДО «Дружб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5ffff"/>
                </a:solidFill>
                <a:uFillTx/>
                <a:latin typeface="Tahoma"/>
              </a:rPr>
              <a:t>Программа профессионально-ориентированного уровн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предусматривает достижение высоких показателей образованности в какой-либо предметной или практической области, умение видеть проблемы, формулировать задачи и искать средства их решени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отовность к освоению программ специального (начального, среднего, высшего) образова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Дополнительные образовательные программы подразделяются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о направленности дополнительного образован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программы научно-технической, спортивно-технической, физкультурно-спортивной, художественно-эстетической, эколого-биологической, военно-патриотической, социально-педагогической, культурологической, естественнонаучной, туристско-краеведческой направленностей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о возрастному диапазону учащихся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программы для дошкольников (3-7 л.), для учащихся начальной(1-4 кл.), основной(5-8 кл.) и средней школы(9-11 кл.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о продолжительности реализации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одногодичная (краткосрочная), двухгодичная и трёхгодичная(программы средней продолжительности реализации) и программа длительной реализации( от 4 лет и более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ffff"/>
                </a:solidFill>
                <a:uFillTx/>
                <a:latin typeface="Times New Roman"/>
              </a:rPr>
              <a:t>ПРИМЕРНЫЕ ТРЕБОВАНИЯ </a:t>
            </a:r>
            <a:br>
              <a:rPr sz="4000"/>
            </a:br>
            <a:r>
              <a:rPr b="1" lang="en-US" sz="4000" spc="-1" strike="noStrike" u="sng">
                <a:solidFill>
                  <a:srgbClr val="e5ffff"/>
                </a:solidFill>
                <a:uFillTx/>
                <a:latin typeface="Times New Roman"/>
              </a:rPr>
              <a:t>к программам дополнительного образования детей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ложение к письму Департамента молодежной политики, воспитания и социальной поддержки детей Минобрнауки России от 11.12.2006 №06-184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5ffff"/>
                </a:solidFill>
                <a:uFillTx/>
                <a:latin typeface="Tahoma"/>
              </a:rPr>
              <a:t>Содержание дополнительных образовательных программ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олжно быть направлено н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здание условий для развития личности ребен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азвитие мотивации личности к познанию и творчеств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беспечение эмоционального благополучия ребен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иобщение обучающихся к общечеловеческим ценностя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филактику асоциального повед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здание условий для социального, культурного и профессионального самоопределения, творческой самореализации личности ребенка, его интеграции  в системе мировой и отечественной культур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елостность процесса психического и физического, умственного и духовного развития личнос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крепление психического и физического здоровья дет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заимодействие педагога доп.образования с семь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Структура программ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итульный ли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яснительная запис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ебно-тематический пл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держание изучаемого кур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етодическое обеспечение дополнительной образовательной програм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писок литерату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52480" y="228600"/>
            <a:ext cx="586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униципальное бюджетное образовательное учрежд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Дополнительного образования дет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«Центр дополнительного образования детей «Дружб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1219320"/>
            <a:ext cx="327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Утверждаю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Директор МБОУ ДОД ЦДО«Дружб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_______ Булаева Н.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2895480"/>
            <a:ext cx="49528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РАЗОВАТЕЛЬНАЯ ПРОГРАМ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«Волшебная бумаг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рок реализации программы: 3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зрастная категория учащихся: 7-13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426708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ещеня Елена Григорьевн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едагог дополнительного образова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ервой категор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90200" y="5891040"/>
            <a:ext cx="133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овогор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080" y="1295280"/>
            <a:ext cx="2530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Рекомендован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педагогическим совето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1.01.12 пр. №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401148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13360" rIns="301680" tIns="46800" bIns="0" anchor="ctr">
            <a:spAutoFit/>
          </a:bodyPr>
          <a:p>
            <a:pPr algn="ctr">
              <a:tabLst>
                <a:tab algn="l" pos="0"/>
                <a:tab algn="l" pos="153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Информационная карта 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Примерный вариант напис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бразовательная программ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«Волшебная бумаг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Ф.И.О. педагога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Дещеня Елена Григорье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ип программы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модифицированн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ид программы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нтегрированн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Уровень освоения СО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глубленн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одолжительность освоения программы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3 го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Уровень реализации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чальное и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сновное общее образов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Пояснительная запис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ледует раскрыть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правленность дополнительной образовательной программ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визну (для программ, претендующих называться авторскими), актуальность, педагогическую целесообразность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личительные особенности данной дополнительной образовательной программы от уже существующих образовательных програм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ль и задачи дополнительной образовательной программ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зраст детей, участвующих в реализации данной дополнительной образовательной программ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роки реализации дополнительной образовательной программы (продолжительность образовательного процесса, этапы), принципы отбора содержания образов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ормы работы с обучающимися и режим занятий (СанПиН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словия реализации программы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жидаемые результаты и способы определения их результативнос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ормы подведения итогов реализации дополнительной образовательной программ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Учебно-тематический план </a:t>
            </a:r>
            <a:br>
              <a:rPr sz="4000"/>
            </a:br>
            <a:r>
              <a:rPr b="1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(по годам обучения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крывает последовательность изучения тем предлагаемого курса и количество часов на каждую из них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пределяет соотношение учебного времени, отводимого на теоретические и практические занят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5ffff"/>
                </a:solidFill>
                <a:uFillTx/>
                <a:latin typeface="Tahoma"/>
              </a:rPr>
              <a:t>Оформление УТП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28600" y="1143000"/>
          <a:ext cx="8763120" cy="5477040"/>
        </p:xfrm>
        <a:graphic>
          <a:graphicData uri="http://schemas.openxmlformats.org/drawingml/2006/table">
            <a:tbl>
              <a:tblPr/>
              <a:tblGrid>
                <a:gridCol w="649440"/>
                <a:gridCol w="3376440"/>
                <a:gridCol w="1384200"/>
                <a:gridCol w="1600200"/>
                <a:gridCol w="1752840"/>
              </a:tblGrid>
              <a:tr h="525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именование разделов и те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щее кол-во час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том числе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еоретически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акти чески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звание разде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звание тем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звание тем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звание разде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того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8f8f8"/>
                </a:solidFill>
                <a:uFillTx/>
                <a:latin typeface="Times New Roman"/>
              </a:rPr>
              <a:t>Образовательная программа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нормативная модель совместной деятельности педагога и воспитанников, определяющая содержание образования определенного уровня и направленности, последовательность действий и способы достижения поставленной цел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5ffff"/>
                </a:solidFill>
                <a:uFillTx/>
                <a:latin typeface="Tahoma"/>
              </a:rPr>
              <a:t>Содержание образован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краткое описание тем (разделов, блоков) в порядке их представления в УТ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ем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Ц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еоретические сведени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нятийный аппарат (тезаурус, глоссарий, ключевые слова, термин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актическая раб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Воспитательный аспек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УМК, формы и методы работы (могут быть отражены в др. разделах программ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жидаемые результаты (компетенция учащихся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олжны зна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олжны уме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5ffff"/>
                </a:solidFill>
                <a:uFillTx/>
                <a:latin typeface="Tahoma"/>
              </a:rPr>
              <a:t>Методическое обеспечение программ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этом разделе программы необходимо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еречислить используемые дидактические материалы (наглядные пособия, демонстрационный, раздаточный материал, инструкционные карты, рабочие тетради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ать краткую характеристику средств, необходимых для реализации программы: кадровых, материально-технических (оборудование, инструменты и материалы) и п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5ffff"/>
                </a:solidFill>
                <a:uFillTx/>
                <a:latin typeface="Tahoma"/>
              </a:rPr>
              <a:t>Методическое обеспечение программ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дставить контрольно-измерительные материалы (анкеты, тесты, контрольные задания, викторины и пр.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ложить разработки занятий, мероприятий, методические рекомендац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тметить, какие формы занятий планируется использовать (учебное занятие, интегрированное, экскурсия, круглый стол и пр.), пояснить, чем обусловлен выбор таких фор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исать основные методы организации образовательного проце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5ffff"/>
                </a:solidFill>
                <a:uFillTx/>
                <a:latin typeface="Tahoma"/>
              </a:rPr>
              <a:t>Список литератур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обходимо привести два списк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ин ─ для педагогов, другой ─ для воспитанников  (их родителей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тературные источники перечисляются в алфавитном порядке и нумеруются. Указывается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автор, название, место издания, издательство, год изд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Н а п р и м е р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Колеченко А.К. Энциклопедия педагогических технологий: Пособие для преподавателей. ─ СПб.: КАРО, 2004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5ffff"/>
                </a:solidFill>
                <a:uFillTx/>
                <a:latin typeface="Tahoma"/>
              </a:rPr>
              <a:t>Дополнительные образовательные программы подразделяются: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о типу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мерные (типовые), модифицированные (адаптированные) и авторские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о способу организации содержания образовани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узкопрофильные, интегрированные и комплексные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о уровню освоения содержания образовани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программы общекультурного, углубленного и профессионально-ориентированного уровней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Примерная (типовая) программ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о программа, утвержденная органом управления образованием и рекомендованная в качестве примерной по той или иной образовательной области или направлению деятель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риентирована на достижение обучающимися определенного уровня освоения знаний, умений и навы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Модифицированная (адаптированная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 программ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программа, в основу которой положена примерная программа, измененная с учетом особенностей ОУ, возраста, уровня подготовки и индивидуальных особенностей учащихся, режима и продолжительности освоения содержания образования; диагностика результатов предполагает демонстрацию достижений обучающихся на отчетных концертах, выставках, конкурсах, соревнованиях, конференциях и т.д., при этом важны и количественные показатели сформированности знаний, умений и навы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Авторская программ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то программа, разработанная педагогом или коллективом педагогов и содержащая до 70% нового материала (либо по содержанию предмета, либо по методам, приемам и формам реализации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вторская программа должна сопровождаться рецензиями 2-х независимых экспертов, результатами психологической или педагогической диагност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e5ffff"/>
                </a:solidFill>
                <a:uFillTx/>
                <a:latin typeface="Tahoma"/>
              </a:rPr>
              <a:t>Узкопрофильная</a:t>
            </a: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 программ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это программа, содержание которой составляет одно направление деятельности или одну область научного зн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e5ffff"/>
                </a:solidFill>
                <a:uFillTx/>
                <a:latin typeface="Tahoma"/>
              </a:rPr>
              <a:t>Интегрированная программ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это программа, направленная на изучение определенной области знания, а также смежных с ней направлений (реализует один педагог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Комплексная программ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дполагает определенное соединение отдельных областей знания, направлений, видов деятельности, процессов в некое целое (преподавание осуществляют несколько педагогов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Это система, в основании которой – цель программы, а все составляющие – взаимозависимы и взаимосвязан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 таким программам относятся программы школ, студий и т.п. с многоступенчатым обучением и набором разных предметов, объединенных одной концепцией, едиными принципами деятельност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5ffff"/>
                </a:solidFill>
                <a:uFillTx/>
                <a:latin typeface="Tahoma"/>
              </a:rPr>
              <a:t>Программа общекультурного уровн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предполагает развитие познавательных интересов детей, расширение кругозора, уровня информированности в данной образовательной области, обогащение опыта общения и совместной деятельности в ходе освоения програм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5ffff"/>
                </a:solidFill>
                <a:uFillTx/>
                <a:latin typeface="Tahoma"/>
              </a:rPr>
              <a:t>Программа углубленного уровн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предполагает формирование теоретических знаний и практических навыков, раскрытие творческих способностей личности в избранной области деятельно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4:59:09Z</dcterms:created>
  <dc:creator>Tech-GS</dc:creator>
  <dc:description/>
  <dc:language>en-US</dc:language>
  <cp:lastModifiedBy>www.PHILka.RU</cp:lastModifiedBy>
  <dcterms:modified xsi:type="dcterms:W3CDTF">2012-01-24T03:25:1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