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312-FF0F-4A1B-B5D7-4446D536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20B-454F-4AF5-B247-A0EC8DF9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211-BD73-43C0-9448-1EC2DDE2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E5AA-3DB2-496E-9099-C4C4DF6C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85F2-F150-43F2-A00E-328301D3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59C0-D0CC-48B3-A0E4-D61A41ED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B459-DD8A-464B-B422-F8160100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3437-E983-417D-AC65-7C95A298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787C-1B50-4DD5-8961-CB8BBF03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BAC7-180E-4A3E-B770-23B39790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660E-0C94-4D60-BCB7-F3990D30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491-334E-4251-B2FC-4915657C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7317-25A8-4C33-B3EF-225BECA3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8C3D-B43F-4964-9C93-EF9D49BC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2E9C-59D0-4CAF-B665-B0CB54C0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B4F8-DC0B-4CF8-A503-17B5CA56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5B1B-3E83-4A8F-A7F1-A00B0AB5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5759-8775-42D1-9435-2304EA43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C9D89-D510-4B80-809D-EC31BF37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75947-05A1-4A8C-814B-8FC6C782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25503-4284-4491-8C6A-0F6F5EB3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89EE3-28F7-475C-8F4D-1068E372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5F4-B52B-44CB-868D-9868C065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694E-3F6B-4D56-B46A-44B1490B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E5E26-ED10-4EB4-9EFF-BD41B6DB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F20B0-3AFF-4076-A3B8-27E4408A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38A89-B180-46A9-9D0A-CEBFEF7C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80FB9-E9EC-48C0-AB5F-8A225C28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9873F-5109-46C3-A313-3E643749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D290F-0309-499B-89DE-43996B00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9A782-D189-4D8C-8088-D93D70CF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CA698-CB6B-4A6E-8C7C-E0D94B40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64320-614E-4796-BCDA-5D0D3FBE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D2D-0C9A-4C1A-9503-58C675DB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27D0A-AAA2-436C-A396-58DA2161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E44A8-2351-48B5-9309-9D4EA3CA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B29ED-C3CE-4309-84CC-7B8BC27E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0B8B3-A67E-43F5-A355-B62E6422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5A186-3A69-4798-B013-3B716D94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21D81-3FA2-4925-BFFD-47AEA35A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7FFA7-AD1D-42F4-885F-CF632D0B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FFA97-9399-4069-86EF-16369067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2BCC8-E95D-4EDF-9B88-A95FFBDA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8322E-6D3F-4E40-9997-1AF33E33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D82-6CF5-42E7-B2EE-DA46131F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5DA04-747D-4891-9607-6DE3649F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03D2F-266A-418B-A58F-9775B32F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2B33E-DA23-41A1-9A08-19396A36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9B53F-41DB-42FB-AD7D-4E5673ED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C6E80-1B0A-4D0B-B01B-4CA6BE8D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7AD53-63E0-4F5D-8367-674769CE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43C3B-C7CE-4A1D-918D-7B248889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2B663-6239-47A7-9E50-70FEE762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C2CE1-EF6F-4377-AA6B-15EDD772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01556-8983-4800-BCC3-25DA5C06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555-2141-4E5B-A059-02008FB0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10375-3557-409C-9AD6-D7B5E979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75491-48A7-43C1-84ED-A114E4E8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9C2B5-94C6-4A72-A841-C480C5F8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BA9AA-10CC-413B-A3D7-DB9DD994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97933-4927-44BC-BB8A-2B5CAEC2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51063-D69F-4FFE-8407-85E6E089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9EED4-8FDE-45EE-B9E4-6E2FD4A0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0B539-E78B-448A-BAAE-66A08D86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4157E-C78D-4B08-B9A8-1A52D2D3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D19CC-1AC3-4BBE-8645-58772319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7FF-1B90-40B6-88B9-8F92AF4F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BD20B-1422-4F2D-A5A0-04052593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A4ADA-D7DC-4F4D-96D0-B99562BB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E1844-80BD-42CD-BC06-836E61C5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D8874-209A-4ACD-8691-BCA116B9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BE503-1EA8-48BD-9FA1-3531A88F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379C4-6124-4F88-ADE0-9B379456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576FD-AD36-4C64-B2C0-6373C9B1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B973C-0BA7-48B6-919D-A251270F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E0C47-1A1D-4FCE-9E41-BA0D3206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614A2-2392-42C7-A05B-2B622ECD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90A-A895-4B43-AFCC-9FD3D686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8AC50-16AB-441E-8970-D1F272C3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20FA3-9181-4F6D-844E-6C10D14C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AFD42-D7A2-413B-935C-3CACDA93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975FF-6997-49EA-BDAE-6C094899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261F5-520A-4A0B-B646-BC02A3B2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D5686-82AD-4568-A7F7-749E6C4B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631F3-1C9D-4FA6-AC91-19A04FA0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A80B9-3117-43F0-A3AB-F78538E0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51D8F-FDF6-4B28-A9A4-278105EB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D3F92-D6BB-4B35-A303-D628DB7D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88E-04E8-4AC3-B842-2D993AE5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1B4D0-7A90-4888-92FF-B422956C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D1D74-6A41-4B06-9CBB-D9B9C581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7230C-27A2-4CE2-AEE2-737F715D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C5A23-33DC-4DA7-BFB3-9BC561D7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4A2CB-ECA3-4E56-883A-4E94706A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A07C2-0578-488E-AB14-3EBF5D48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2F0D4-CED2-4748-BEC5-6EE25F20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7107-B731-4670-A436-8348A0AACC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B3E9-9600-4ED3-83B3-6A16EF83C7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0E9A-2075-4F33-92FB-224FDD0721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18CB-2A42-4C17-AA03-5A7B65F724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74F2-AD23-441D-97B3-B83D8460C2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8DEC-07D8-4C3C-98DA-E82F22DE5F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D7BD-4F05-49C3-ADBE-55CF2FE01C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69DD-12FF-4E2A-A54B-D278BD31CB1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2766960" y="938160"/>
            <a:ext cx="662616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339640" y="3885840"/>
            <a:ext cx="6264360" cy="191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Sans Unicode"/>
              </a:rPr>
              <a:t>                    </a:t>
            </a:r>
            <a:r>
              <a:rPr b="1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е наши замыслы, все поиски и построения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вращаются в прах, если у ученика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т желания учиться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.А. Сухомлинский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cc00"/>
                </a:solidFill>
                <a:latin typeface="Lucida Sans Unicod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b0b0f"/>
                </a:solidFill>
                <a:latin typeface="Lucida Sans Unicode"/>
              </a:rPr>
              <a:t>                         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D:\Мои документы\Pictures\i.jpeg"/>
          <p:cNvPicPr/>
          <p:nvPr/>
        </p:nvPicPr>
        <p:blipFill>
          <a:blip r:embed="rId2"/>
          <a:stretch/>
        </p:blipFill>
        <p:spPr>
          <a:xfrm>
            <a:off x="250920" y="907920"/>
            <a:ext cx="2376360" cy="190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68000" y="691920"/>
            <a:ext cx="822636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Моти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от латинского) – приводить в движение, толкать. Это побуждение к деятельности, связанное с удовлетворением потребности челове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Мотивация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– побуждение, вызывающее активность организма и определяющие его направленн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Мотивация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– совокупность побуждений к деятельнос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3"/>
          <p:cNvSpPr/>
          <p:nvPr/>
        </p:nvSpPr>
        <p:spPr>
          <a:xfrm>
            <a:off x="1116000" y="981000"/>
            <a:ext cx="710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оненты мотивационной сф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Схема 4" descr=""/>
          <p:cNvPicPr/>
          <p:nvPr/>
        </p:nvPicPr>
        <p:blipFill>
          <a:blip r:embed="rId1"/>
          <a:stretch/>
        </p:blipFill>
        <p:spPr>
          <a:xfrm>
            <a:off x="365040" y="1407960"/>
            <a:ext cx="84931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7"/>
          <p:cNvSpPr/>
          <p:nvPr/>
        </p:nvSpPr>
        <p:spPr>
          <a:xfrm>
            <a:off x="250920" y="476280"/>
            <a:ext cx="878508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da2bf"/>
                </a:solidFill>
                <a:uFillTx/>
                <a:latin typeface="Times New Roman"/>
                <a:ea typeface="Times New Roman"/>
              </a:rPr>
              <a:t>Мотивации познавательной деятельности име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da2b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2da2bf"/>
                </a:solidFill>
                <a:uFillTx/>
                <a:latin typeface="Times New Roman"/>
                <a:ea typeface="Times New Roman"/>
              </a:rPr>
              <a:t>несколько знач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a2bf"/>
                </a:solidFill>
                <a:latin typeface="Times New Roman"/>
                <a:ea typeface="Times New Roman"/>
              </a:rPr>
              <a:t> •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вляясь продуктом формирования  личности, они выступают вместе с тем как фактор ее дальнейшего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•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казывают общее стимулирующее воздействие на протекание мыслительных процессов, становятся источником интеллектуальной ак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•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билизуют творческие силы на поиск и решение познавательных задач, положительно влияют на качество знаний, их глубину и действенность, широту, систематиз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•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вляются важнейшим внутренним условием развития стремления к самообразова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•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еют диагностическое значение, то есть служат показателем развития многочисленных качеств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291960" y="195120"/>
            <a:ext cx="8528040" cy="1109880"/>
          </a:xfrm>
          <a:prstGeom prst="rect">
            <a:avLst/>
          </a:prstGeom>
          <a:ln w="0">
            <a:noFill/>
          </a:ln>
        </p:spPr>
      </p:pic>
      <p:sp>
        <p:nvSpPr>
          <p:cNvPr id="378" name="TextBox 3"/>
          <p:cNvSpPr/>
          <p:nvPr/>
        </p:nvSpPr>
        <p:spPr>
          <a:xfrm>
            <a:off x="395280" y="1413000"/>
            <a:ext cx="8280360" cy="60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c767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Смысл учения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– внутреннее отношение  обучающегося к учению.        Психологи отмечают, что смысл учения – это сложное личностное образование, которое включает два мо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осознание ребёнком  объективной значимости 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онимание ребёнком субъективной значимости 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Мотив учения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- побудительная причина, внутреннее личностное побуждение  к действию, осознанная заинтересованность в его соверш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остановка целей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– это направленность обучающегося   на выполнение отдельных действий, входящих в учебную деятельность. Через постановку целей воплощается мотивы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Эмоции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– реакция ребёнка  на воздействие внутренних и внешних раздраж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Интересы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– познавательно – эмоциональное отношение обучающихся к обуч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4"/>
          <p:cNvSpPr/>
          <p:nvPr/>
        </p:nvSpPr>
        <p:spPr>
          <a:xfrm>
            <a:off x="468360" y="333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К традиционным формам организации деятельности обучающихся в учебном процессе  относятся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 лекции, семинары, дискуссии, конференции, экскурсии, экспедиции, туристические походы, учебны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5"/>
          <p:cNvSpPr/>
          <p:nvPr/>
        </p:nvSpPr>
        <p:spPr>
          <a:xfrm>
            <a:off x="395280" y="1197000"/>
            <a:ext cx="8497800" cy="91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Нестандартные занятия могут быть самыми разнообразными.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Самые распространённые из них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нятия, основанные на идеях  соревн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нятие, основанное на межпредметных связ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занятия, основанные на методах общественной практики и основанные    на коллективной работе по отысканию социального значения  и  личностного смысла явлений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занятия,  основанные  на  нетрадиционной организации учебн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занятие, основанное на фантазии педагога и 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занятия, основанные на имитации обществе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нятие, основанное  на  способности проецировать изменения действительности во имя улучшения жизни, соотнесение личных интересов с общественными,  предложения новых идей для решения жизнен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нятие, основанное на создании особой психологической атмосферы, смягчающей и раскрепощающей  взаимные отно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нятие,  основанное на  творческом отчёте коллектива, обсуждении плана на будущее, создании атмосферы дружбы, взаимопонимания, формировании  умения взаимодействовать с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ec767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ec767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c767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1"/>
          <p:cNvSpPr/>
          <p:nvPr/>
        </p:nvSpPr>
        <p:spPr>
          <a:xfrm>
            <a:off x="611280" y="90792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аким образом,  мотивация учебной деятельности как показатель эффективности образовательной деятельности определяет готовность обучающихся к самостоятельному усвоению необходимых знаний и умений,  готовность через шанс, подаренный  дополнительным образованием, прийти к жизненному успех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D:\Мои документы\Documents\Лена\Картинки к семинару\1294592194_traumerwalls-374.jpg"/>
          <p:cNvPicPr/>
          <p:nvPr/>
        </p:nvPicPr>
        <p:blipFill>
          <a:blip r:embed="rId1"/>
          <a:stretch/>
        </p:blipFill>
        <p:spPr>
          <a:xfrm>
            <a:off x="2484360" y="3573360"/>
            <a:ext cx="41752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Прямоугольник 1" descr=""/>
          <p:cNvPicPr/>
          <p:nvPr/>
        </p:nvPicPr>
        <p:blipFill>
          <a:blip r:embed="rId1"/>
          <a:stretch/>
        </p:blipFill>
        <p:spPr>
          <a:xfrm>
            <a:off x="1974960" y="1127160"/>
            <a:ext cx="5267160" cy="2805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D:\Мои документы\Pictures\i114.jpeg"/>
          <p:cNvPicPr/>
          <p:nvPr/>
        </p:nvPicPr>
        <p:blipFill>
          <a:blip r:embed="rId2"/>
          <a:stretch/>
        </p:blipFill>
        <p:spPr>
          <a:xfrm>
            <a:off x="6372360" y="3933720"/>
            <a:ext cx="187164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2:16:48Z</dcterms:created>
  <dc:creator>Дом</dc:creator>
  <dc:description/>
  <dc:language>en-US</dc:language>
  <cp:lastModifiedBy>Никита</cp:lastModifiedBy>
  <dcterms:modified xsi:type="dcterms:W3CDTF">2013-11-07T15:41:07Z</dcterms:modified>
  <cp:revision>19</cp:revision>
  <dc:subject/>
  <dc:title>Мотивация учения – основное условие успешного обучения </dc:title>
</cp:coreProperties>
</file>