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1A4-EC1C-42C4-8C58-E61E82B1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F712-AEC4-434E-910F-4D9A6583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859-3AF9-4F6C-9436-85CDE5FDD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E635-C42D-4C5D-9514-92479868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58C4-2285-4E5D-AFC8-850CC3D8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2398-67FF-4761-8C54-DF9983FF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F070-0A62-4C06-9D1C-3F19E3A3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898A-443C-4658-9CB7-8390971F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B5AB-3FB7-453F-8B1C-31EA160B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CED6-DC90-4B02-91B6-9160EF51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EA1C-4EEC-4CFD-BB39-74959BDB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BC9-CF15-4923-959B-ACC62E44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9698-B910-4656-81D1-15E064CB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3361-18A8-4584-B7B2-7BABF68D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6237-64BC-4D79-BF96-9F161FD9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940E-BD51-4CDB-8003-113BE4E0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AC93-67B4-4876-85A5-F82761A7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E415A-00BE-4DC5-B629-6CF96D1E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AE2D7-A493-4BA2-8F7E-D1F2B9B0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77635-20BA-4DD8-BDB8-F3B71E64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3033B-5290-4EA9-9610-FC9B4DA7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15BE6-F2DE-4EE8-8A6D-92BDF2E1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624-72E1-4380-A11F-81ADA1B7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A160C-6148-4156-8EA4-800F3CE1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7F8B2-07A7-4730-876E-AD632D0C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92A2D-57F7-498F-9732-BCFC554D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1E525-3B7B-4886-8DE8-F453C196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43134-029A-4EAD-B57C-017A1914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60962-7C32-4E0A-8DE1-CB70A470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12920-D94F-46D1-93DE-984B69D9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8F9AE-0A33-4228-8D4E-63E109EA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D20E2-52BE-4E31-AE56-74C9490F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37BA5-6210-48EB-9D1C-83742314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CB9-CCE3-4161-A3A6-7B9BBA36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4D6E0-B7B6-4855-9281-2B22EC71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E3E31-543F-488E-9899-5958C511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5C63B-91C4-4FC9-AC6A-BAC373F7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DA2EE-3A7E-48AA-A25E-63481FD0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F9447-4E29-427B-992C-9262D2B4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53BE6-F366-4872-AECF-4F8107A3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E5FD2-9078-449F-8069-F85CBA02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1F250-E13A-4026-8582-34567348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FB090-9984-469A-B509-E7DBCA54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A451F-C460-4EA5-BA94-F688F2BC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DE7-7A83-409D-9D7B-55C516C2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9DD79-61F9-4A05-B4F6-E6D84CC9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22B30-547D-4AF2-80DB-C4F9F415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CC693-24B4-45BB-B35B-149C384E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25CDB-E5D3-40FB-AF8E-73B30F1C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B9617-FD37-4EBB-80E6-EE10A715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0988E-E56B-4ECE-8AEF-8CD721F2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4CF10-45A1-4DB9-8A76-981D53D0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AC6B8-C702-40E6-A30B-89F4C3EA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9B8C8-1B70-422E-AD2E-FC8BF57F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B42B0-7F73-4899-BB3D-C4A5C4BF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59F-5A6B-4918-8E5E-010EBA63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1D823-B057-4480-BC9F-359B5A39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7B9F8-DB3E-4947-A7F6-67D9BBC9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14EC7-17B2-468D-8D71-50668353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8861D-C309-4A65-950B-71F5EE95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28EB2-45B8-4972-ADA6-6912B9B6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C9B9D-A836-4DC9-9C1A-EDA255E6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4F93B-85FB-4C76-A533-9FA8040D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9C242-B225-497E-9E34-55E16284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1C5E5-196B-440B-9615-53732849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EE5B8-08BC-479C-B8C8-6C3AB0B5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F76-4155-47E9-9D44-3656E76B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BFE15-B39B-442F-96FA-E5DFB050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64E25-AE8E-4442-AA49-D46AD4F0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1D27D-6185-4AB5-9551-FB21FD27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E0EEB-8754-46DF-AA85-7998ECC3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5AAFF-FE60-4BCB-A780-5CABDD18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AE294-10F0-4FE5-ABBA-3232353D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CBAB2-A16A-49A0-A18D-3B1640DE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FCAB5-75FC-4268-8BDC-465B6460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43DFF-1DDC-4A83-8DAE-515D3E7E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3393C-FBCB-4AA1-BB98-24D4DD0E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A60-128F-46BD-8145-63437B92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B5588-BCCB-4B53-A50F-CA3D5C27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F123F-6944-4381-8EE1-F5904490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06C36-6B33-412A-B007-85268E29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7474A-25CE-4B12-B880-7F402ADA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E56CE-6948-41B1-B11E-28FC824A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00130-4CC8-424F-A6AB-2760F280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07E0C-EBC3-495E-9FF4-25FE47A4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C4D42-513A-4B83-9DF9-7325D044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8F53A-E18E-417F-A108-3FC91F7E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74C64-7BF3-4115-81E6-E349F586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E5D7-2023-4C4C-A772-E478D9AA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63BA6-684B-4B82-95E9-644DE15B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3B647-3A61-4A00-81B0-CD45E05E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0C440-74AF-4D27-91A0-DA70F5CD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36B30-CA92-4D51-A26C-5BA40C53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3189C-2425-4336-AA5E-E2A737EE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53F82-C796-4C48-B676-B5AA8271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4E7D2-B910-460D-9937-1B676A6C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B156-9FEC-4CB1-933E-C4C96917DE6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91F9-5530-4962-AD9A-2D3AEE32A7E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3F5B-430F-4C61-BB4B-625B2F5033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9226-5BEA-4CE2-833A-048C1EB61F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A02D-7126-4937-8661-3CD5E1002C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9CA7-3156-4C64-8DE5-FC2C1EE4CA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A79B-4065-4AC0-8195-1BA7793C6F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2C72-AD58-4EAD-84C6-90060A245E7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2766960" y="938160"/>
            <a:ext cx="662616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339640" y="3885840"/>
            <a:ext cx="6264360" cy="1919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cc00"/>
                </a:solidFill>
                <a:latin typeface="Lucida Sans Unicode"/>
              </a:rPr>
              <a:t>                    </a:t>
            </a:r>
            <a:r>
              <a:rPr b="1" lang="ru-RU" sz="1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се наши замыслы, все поиски и построения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вращаются в прах, если у ученика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т желания учиться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1" lang="ru-RU" sz="1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.А. Сухомлинский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cc00"/>
                </a:solidFill>
                <a:latin typeface="Lucida Sans Unicode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b0b0f"/>
                </a:solidFill>
                <a:latin typeface="Lucida Sans Unicode"/>
              </a:rPr>
              <a:t>                         </a:t>
            </a: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D:\Мои документы\Pictures\i.jpeg"/>
          <p:cNvPicPr/>
          <p:nvPr/>
        </p:nvPicPr>
        <p:blipFill>
          <a:blip r:embed="rId2"/>
          <a:stretch/>
        </p:blipFill>
        <p:spPr>
          <a:xfrm>
            <a:off x="250920" y="907920"/>
            <a:ext cx="2376360" cy="190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68000" y="691920"/>
            <a:ext cx="822636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Мотив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от латинского) – приводить в движение, толкать. Это побуждение к деятельности, связанное с удовлетворением потребности челове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Мотивация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– побуждение, вызывающее активность организма и определяющие его направленн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Lucida Sans Unicode"/>
              </a:rPr>
              <a:t>Мотивация</a:t>
            </a:r>
            <a:r>
              <a:rPr b="0" lang="ru-RU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– совокупность побуждений к деятельнос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3"/>
          <p:cNvSpPr/>
          <p:nvPr/>
        </p:nvSpPr>
        <p:spPr>
          <a:xfrm>
            <a:off x="1116000" y="981000"/>
            <a:ext cx="710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оненты мотивационной сф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Схема 4" descr=""/>
          <p:cNvPicPr/>
          <p:nvPr/>
        </p:nvPicPr>
        <p:blipFill>
          <a:blip r:embed="rId1"/>
          <a:stretch/>
        </p:blipFill>
        <p:spPr>
          <a:xfrm>
            <a:off x="365040" y="1407960"/>
            <a:ext cx="84931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7"/>
          <p:cNvSpPr/>
          <p:nvPr/>
        </p:nvSpPr>
        <p:spPr>
          <a:xfrm>
            <a:off x="250920" y="476280"/>
            <a:ext cx="878508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da2bf"/>
                </a:solidFill>
                <a:uFillTx/>
                <a:latin typeface="Times New Roman"/>
                <a:ea typeface="Times New Roman"/>
              </a:rPr>
              <a:t>Мотивации познавательной деятельности име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da2b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2da2bf"/>
                </a:solidFill>
                <a:uFillTx/>
                <a:latin typeface="Times New Roman"/>
                <a:ea typeface="Times New Roman"/>
              </a:rPr>
              <a:t>несколько знач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a2bf"/>
                </a:solidFill>
                <a:latin typeface="Times New Roman"/>
                <a:ea typeface="Times New Roman"/>
              </a:rPr>
              <a:t> •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вляясь продуктом формирования  личности, они выступают вместе с тем как фактор ее дальнейшего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•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казывают общее стимулирующее воздействие на протекание мыслительных процессов, становятся источником интеллектуальной актив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•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билизуют творческие силы на поиск и решение познавательных задач, положительно влияют на качество знаний, их глубину и действенность, широту, систематиз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•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являются важнейшим внутренним условием развития стремления к самообразова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• 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меют диагностическое значение, то есть служат показателем развития многочисленных качеств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291960" y="195120"/>
            <a:ext cx="8528040" cy="1109880"/>
          </a:xfrm>
          <a:prstGeom prst="rect">
            <a:avLst/>
          </a:prstGeom>
          <a:ln w="0">
            <a:noFill/>
          </a:ln>
        </p:spPr>
      </p:pic>
      <p:sp>
        <p:nvSpPr>
          <p:cNvPr id="378" name="TextBox 3"/>
          <p:cNvSpPr/>
          <p:nvPr/>
        </p:nvSpPr>
        <p:spPr>
          <a:xfrm>
            <a:off x="395280" y="1413000"/>
            <a:ext cx="8280360" cy="60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c767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Смысл учения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– внутреннее отношение  обучающегося к учению.        Психологи отмечают, что смысл учения – это сложное личностное образование, которое включает два мо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осознание ребёнком  объективной значимости 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понимание ребёнком субъективной значимости 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Мотив учения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- побудительная причина, внутреннее личностное побуждение  к действию, осознанная заинтересованность в его соверш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Постановка целей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– это направленность обучающегося   на выполнение отдельных действий, входящих в учебную деятельность. Через постановку целей воплощается мотивы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Эмоции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– реакция ребёнка  на воздействие внутренних и внешних раздраж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Интересы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– познавательно – эмоциональное отношение обучающихся к обучен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4"/>
          <p:cNvSpPr/>
          <p:nvPr/>
        </p:nvSpPr>
        <p:spPr>
          <a:xfrm>
            <a:off x="468360" y="3333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К традиционным формам организации деятельности обучающихся в учебном процессе  относятся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 лекции, семинары, дискуссии, конференции, экскурсии, экспедиции, туристические походы, учебны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5"/>
          <p:cNvSpPr/>
          <p:nvPr/>
        </p:nvSpPr>
        <p:spPr>
          <a:xfrm>
            <a:off x="395280" y="1197000"/>
            <a:ext cx="8497800" cy="91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Нестандартные занятия могут быть самыми разнообразными.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Самые распространённые из них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нятия, основанные на идеях  соревн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нятие, основанное на межпредметных связ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занятия, основанные на методах общественной практики и основанные    на коллективной работе по отысканию социального значения  и  личностного смысла явлений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занятия,  основанные  на  нетрадиционной организации учебного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занятие, основанное на фантазии педагога и обучающих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занятия, основанные на имитации обществе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нятие, основанное  на  способности проецировать изменения действительности во имя улучшения жизни, соотнесение личных интересов с общественными,  предложения новых идей для решения жизненны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нятие, основанное на создании особой психологической атмосферы, смягчающей и раскрепощающей  взаимные отно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0070c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нятие,  основанное на  творческом отчёте коллектива, обсуждении плана на будущее, создании атмосферы дружбы, взаимопонимания, формировании  умения взаимодействовать с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ec767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buClr>
                <a:srgbClr val="ec767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c767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1"/>
          <p:cNvSpPr/>
          <p:nvPr/>
        </p:nvSpPr>
        <p:spPr>
          <a:xfrm>
            <a:off x="611280" y="90792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аким образом,  мотивация учебной деятельности как показатель эффективности образовательной деятельности определяет готовность обучающихся к самостоятельному усвоению необходимых знаний и умений,  готовность через шанс, подаренный  дополнительным образованием, прийти к жизненному успех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D:\Мои документы\Documents\Лена\Картинки к семинару\1294592194_traumerwalls-374.jpg"/>
          <p:cNvPicPr/>
          <p:nvPr/>
        </p:nvPicPr>
        <p:blipFill>
          <a:blip r:embed="rId1"/>
          <a:stretch/>
        </p:blipFill>
        <p:spPr>
          <a:xfrm>
            <a:off x="2484360" y="3573360"/>
            <a:ext cx="41752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Прямоугольник 1" descr=""/>
          <p:cNvPicPr/>
          <p:nvPr/>
        </p:nvPicPr>
        <p:blipFill>
          <a:blip r:embed="rId1"/>
          <a:stretch/>
        </p:blipFill>
        <p:spPr>
          <a:xfrm>
            <a:off x="1974960" y="1127160"/>
            <a:ext cx="5267160" cy="2805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D:\Мои документы\Pictures\i114.jpeg"/>
          <p:cNvPicPr/>
          <p:nvPr/>
        </p:nvPicPr>
        <p:blipFill>
          <a:blip r:embed="rId2"/>
          <a:stretch/>
        </p:blipFill>
        <p:spPr>
          <a:xfrm>
            <a:off x="6372360" y="3933720"/>
            <a:ext cx="187164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2:16:48Z</dcterms:created>
  <dc:creator>Дом</dc:creator>
  <dc:description/>
  <dc:language>en-US</dc:language>
  <cp:lastModifiedBy>Никита</cp:lastModifiedBy>
  <dcterms:modified xsi:type="dcterms:W3CDTF">2013-11-07T15:41:07Z</dcterms:modified>
  <cp:revision>19</cp:revision>
  <dc:subject/>
  <dc:title>Мотивация учения – основное условие успешного обучения </dc:title>
</cp:coreProperties>
</file>