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D651-A48F-4E86-99DC-8DA32F34E6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D829-CF03-4E4A-BC44-4D1DDBC98B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1AC-26DF-4B34-B7D7-C98460F1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8A6-4732-4E3A-BA3C-2A69B4F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6F59-6469-4D20-9EBA-4AF34777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9A86-F3A5-4DFA-A40D-28AB3A89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665D-5A99-4E17-897F-FBB9B6FA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6A5F-740F-4EAA-BBF7-DF700CE0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9F96-B7C7-4107-97E9-114576FD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B607-1386-4981-8F2D-5F8B741A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973F-0557-497E-ABB5-0651593A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685440"/>
            <a:ext cx="5791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C65A-57BA-411C-8EC5-BFB7DDB9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4BC0-9AAB-4BC1-AF88-491800CB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D4A-0326-4D35-921F-AFCF8E84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716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287E-E475-451F-A7AC-99EA63C7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CD38-8FDB-4177-99AB-F64C762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559-A59A-40B4-AB1B-36CB16B2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716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8AC6-B552-42FC-B228-D6A63EE8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60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7960" y="14475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60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7960" y="3954960"/>
            <a:ext cx="267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ACDF-9C25-4ED5-B624-B0ABD1A9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CFC-D20C-48A1-8E90-518BAECB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474-0AC8-429E-A5D1-768C55AE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F560-5B8B-4445-9C77-376DA57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685440"/>
            <a:ext cx="5791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223-6CB9-4057-BDC6-5FB989EC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A07-1C03-426D-9D0B-C8EB97A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9549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473-A8C0-4120-8680-F2AEC7A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676440"/>
            <a:ext cx="5791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447560"/>
            <a:ext cx="4053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954960"/>
            <a:ext cx="8305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FD8-D9F9-45BA-B447-B0F2CB0F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7676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95880" y="62672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2971440" y="64767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E206-88E5-4855-AC80-06D843F176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5"/>
          <p:cNvSpPr/>
          <p:nvPr/>
        </p:nvSpPr>
        <p:spPr>
          <a:xfrm>
            <a:off x="7924680" y="15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3663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958160" y="1857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3663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80520" y="685440"/>
            <a:ext cx="5791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C00F-4D99-4979-87BC-E5304450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8893080" cy="1193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0c0c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ормативно-правовая база в сфере дополнительного образования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15920"/>
            <a:ext cx="7812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8588520" y="3581280"/>
            <a:ext cx="75960" cy="228600"/>
          </a:xfrm>
          <a:prstGeom prst="rect">
            <a:avLst/>
          </a:prstGeom>
          <a:solidFill>
            <a:srgbClr val="e366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356000" y="5516640"/>
            <a:ext cx="4788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6372360" y="2276640"/>
            <a:ext cx="2447640" cy="316836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219240" y="1600200"/>
            <a:ext cx="6297480" cy="4495680"/>
          </a:xfrm>
          <a:prstGeom prst="rightArrow">
            <a:avLst>
              <a:gd name="adj1" fmla="val 79306"/>
              <a:gd name="adj2" fmla="val 34695"/>
            </a:avLst>
          </a:prstGeom>
          <a:gradFill rotWithShape="0">
            <a:gsLst>
              <a:gs pos="0">
                <a:srgbClr val="e0e0e0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395280" y="2209680"/>
            <a:ext cx="46814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СТАВ – свод правил, положе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пределяющих построение и деятельност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рганизации, права и обязанности ее член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95280" y="3352680"/>
            <a:ext cx="46814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одержание Устава регламентируетс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коном РФ «Об образовани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324000" y="4508640"/>
            <a:ext cx="504000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3663f"/>
              </a:gs>
              <a:gs pos="100000">
                <a:srgbClr val="692f1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«Устав разрабатывается и принимается коллективо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бразовательного учреждения для внесения его 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тверждение» (Закон «Об образовании»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6300720" y="3200400"/>
            <a:ext cx="251928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В -важнейший юридический документ ОУ, определяющий его статус, отношения с учредителем и всеми участниками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391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рганизационно-правовые документы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бразовательного учрежден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9360">
            <a:solidFill>
              <a:srgbClr val="699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5580000" y="-819000"/>
            <a:ext cx="2232000" cy="14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3912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кты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бразовательного учрежден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78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внутреннего трудового рас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для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внутреннего распорядка для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 готовности ОО к 2014-15 учебному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120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акты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учрежд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0520" y="1356840"/>
            <a:ext cx="4077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я схема МБУ ДО «ДТДиМ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управления МБУ ДО «ДТДи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административного 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методического 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 на 2014-16 г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внутреннем контро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публичного от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 оплате труда работников ДТД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внутренней системы оценки качества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10160" y="144756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само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щего собрания трудового коллект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Совета Учре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педагогического 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попечительского со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6760" y="642600"/>
            <a:ext cx="833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акты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7120" y="128556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 обработке и защите персональных данных работников и обучающих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 учебных кабинетах и помещени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фициального  сай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 по антивирусной и парольной защ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методического объеди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отдела декоративно-прикладного творче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тдела клубов по месту житель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тдела музык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отдела художествен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Новогорненского филиала «Дружб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610160" y="144756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о методической службе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музе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внутренней системы оценки качества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жение оздоровительного лагеря «Звёздочка», «Орлёнок», «Отважны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аттестации педагогических работников на соответствие занимаемой долж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комиссии по регулированию споров между участниками образовательных отно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плате труда рабо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-правовые акты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учрежд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0520" y="1447560"/>
            <a:ext cx="4077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й проце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режима занятий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приёме обучающихся в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 и основания перевода, отчисления и восстановления обучаю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10160" y="1447560"/>
            <a:ext cx="4076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формах получения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промежуточной аттестации обучающих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99de9"/>
              </a:gs>
              <a:gs pos="100000">
                <a:srgbClr val="31496c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476dc"/>
              </a:gs>
              <a:gs pos="100000">
                <a:srgbClr val="363766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3663f"/>
              </a:gs>
              <a:gs pos="100000">
                <a:srgbClr val="692f1d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51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полнительные (в т.ч. платные) образовательные услуги (нормативно-правовые акт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1116000" y="2708280"/>
            <a:ext cx="2089080" cy="30258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уч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т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ых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луг – право, а 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яза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ающего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3492360" y="2708280"/>
            <a:ext cx="2087640" cy="29527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т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луги не мог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ыть оказа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мес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нансиру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 счет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5867280" y="2708280"/>
            <a:ext cx="2521080" cy="295272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т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луги оказыва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 основе дого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в соответств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Правилам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утв. Правительств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Ф от 15.08.2013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№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62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образовательные услуги (нормативно-правовые акт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РФ. Постановление от 15.08.2013г. № 706 «Об утверждении правил оказания платных образовательных услуг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 об оказании платных дополнительных образовательных услу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 порядке осуществления приносящей доход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21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Е (КРАТКОСРОЧНЫЕ) ДОКУМЕНТЫ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24000" y="1484280"/>
            <a:ext cx="7056360" cy="215892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ФИНАНСОВО-ЭКОНОМИЧЕСКОМУ 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ое штатное расписание ОУ на уч.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рификационная ведомость работников ОУ на уч.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мета ОУ по бюджетным ассигнованиям на финансовый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ы по платным дополнительным услугам на учебный год и др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195640" y="3716280"/>
            <a:ext cx="6491160" cy="227988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МАТЕРИАЛЬНО-ТЕХНИЧЕСКОМУ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спорт  (акт) готовности ОУ к новому учебному год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 на техническое обслуживание здания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 с охранным агентством на уч.год и копия лицензии на охранную деятель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 с поликлиникой по медицинскому обслуживанию обучающихся на уч. го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21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ЫЕ (КРАТКОСРОЧНЫЕ) ДОКУМЕНТЫ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20760" y="1428840"/>
            <a:ext cx="4176720" cy="165564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ОБРАЗОВАТЕЛЬНОМУ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тингент обучающихся ОУ на уч.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ы ОУ с образовательными, культурными,  научными  и др. учреждениями на учебный го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500720" y="2421000"/>
            <a:ext cx="4181400" cy="129708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УПРАВЛЕНЧЕСКОМУ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кты проверок и обследований ОУ вышестоящими и др. организациями за учебный го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547640" y="3789360"/>
            <a:ext cx="5689800" cy="2303640"/>
          </a:xfrm>
          <a:prstGeom prst="rect">
            <a:avLst/>
          </a:prstGeom>
          <a:solidFill>
            <a:srgbClr val="dddddd"/>
          </a:solidFill>
          <a:ln w="9360">
            <a:solidFill>
              <a:srgbClr val="3739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РАБОТЕ С КАДРАМИ И ПРОГРАММНО-МЕТОДИЧЕСКОМУ БЛОКУ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дивидуальные учебные планы ОУ на учебный год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гласованные программы обучения по предметам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говоры по обеспечению учебниками, учебно-методической и художественной литературо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раммы научно-экспериментальной деятельности О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9144000" y="658332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476280"/>
          <a:ext cx="8785440" cy="5883120"/>
        </p:xfrm>
        <a:graphic>
          <a:graphicData uri="http://schemas.openxmlformats.org/drawingml/2006/table">
            <a:tbl>
              <a:tblPr/>
              <a:tblGrid>
                <a:gridCol w="4548240"/>
                <a:gridCol w="4237200"/>
              </a:tblGrid>
              <a:tr h="2485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ФИНАНСОВО-ЭКОНОМИЧЕСКОМУ БЛОК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я о порядке установления доплат и надбавок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орядке премирования работнико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редоставлении платных дополнительных услуг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опечительском Совет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УПРАВЛЕНЧЕСКОМУ БЛОК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едагогическом совет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я о структурных подразделениях ОУ (методическом совете, предметных комиссиях, лаборатории, библиотеке и т.д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653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АТЕРИАЛЬНО-ТЕХНИЧЕСКОМУ БЛ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штабе ГО и ЧС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б охране труда и ТБ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медицинской служб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БОТЕ С КАДРАМИ И ПРОГРАММНО-МЕТОДИЧЕСКОМУ БЛО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б аттестации педагогических работнико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методической работе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5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ОБРАЗОВАТЕЛЬНОМУ БЛОК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орядке приема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ромежуточной аттестации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б итоговой аттестации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кураторе в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МОТИВАЦИОННОМУ БЛОК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37399b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ение о психологической службе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5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3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ная база МБУ ДО «ДТДиМ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"/>
          <p:cNvGrpSpPr/>
          <p:nvPr/>
        </p:nvGrpSpPr>
        <p:grpSpPr>
          <a:xfrm>
            <a:off x="1828800" y="1947960"/>
            <a:ext cx="762120" cy="664920"/>
            <a:chOff x="1828800" y="1947960"/>
            <a:chExt cx="762120" cy="664920"/>
          </a:xfrm>
        </p:grpSpPr>
        <p:sp>
          <p:nvSpPr>
            <p:cNvPr id="98" name="AutoShape 4"/>
            <p:cNvSpPr/>
            <p:nvPr/>
          </p:nvSpPr>
          <p:spPr>
            <a:xfrm>
              <a:off x="183492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5"/>
            <p:cNvSpPr/>
            <p:nvPr/>
          </p:nvSpPr>
          <p:spPr>
            <a:xfrm>
              <a:off x="182880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utoShape 6"/>
            <p:cNvSpPr/>
            <p:nvPr/>
          </p:nvSpPr>
          <p:spPr>
            <a:xfrm>
              <a:off x="187308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92f1d"/>
                </a:gs>
                <a:gs pos="100000">
                  <a:srgbClr val="e3663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1828800" y="2862360"/>
            <a:ext cx="761760" cy="664920"/>
            <a:chOff x="1828800" y="2862360"/>
            <a:chExt cx="761760" cy="664920"/>
          </a:xfrm>
        </p:grpSpPr>
        <p:sp>
          <p:nvSpPr>
            <p:cNvPr id="102" name="AutoShape 8"/>
            <p:cNvSpPr/>
            <p:nvPr/>
          </p:nvSpPr>
          <p:spPr>
            <a:xfrm>
              <a:off x="183492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880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AutoShape 10"/>
            <p:cNvSpPr/>
            <p:nvPr/>
          </p:nvSpPr>
          <p:spPr>
            <a:xfrm>
              <a:off x="187308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Line 11"/>
          <p:cNvSpPr/>
          <p:nvPr/>
        </p:nvSpPr>
        <p:spPr>
          <a:xfrm>
            <a:off x="2438280" y="2557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3356280" y="202392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льны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202752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2438280" y="3471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3356280" y="29383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202752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7"/>
          <p:cNvGrpSpPr/>
          <p:nvPr/>
        </p:nvGrpSpPr>
        <p:grpSpPr>
          <a:xfrm>
            <a:off x="1828800" y="3754440"/>
            <a:ext cx="762120" cy="665280"/>
            <a:chOff x="1828800" y="3754440"/>
            <a:chExt cx="762120" cy="665280"/>
          </a:xfrm>
        </p:grpSpPr>
        <p:sp>
          <p:nvSpPr>
            <p:cNvPr id="112" name="AutoShape 18"/>
            <p:cNvSpPr/>
            <p:nvPr/>
          </p:nvSpPr>
          <p:spPr>
            <a:xfrm>
              <a:off x="183492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82880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87308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92f1d"/>
                </a:gs>
                <a:gs pos="100000">
                  <a:srgbClr val="e3663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21"/>
          <p:cNvGrpSpPr/>
          <p:nvPr/>
        </p:nvGrpSpPr>
        <p:grpSpPr>
          <a:xfrm>
            <a:off x="1828800" y="4668840"/>
            <a:ext cx="761760" cy="665280"/>
            <a:chOff x="1828800" y="4668840"/>
            <a:chExt cx="761760" cy="665280"/>
          </a:xfrm>
        </p:grpSpPr>
        <p:sp>
          <p:nvSpPr>
            <p:cNvPr id="116" name="AutoShape 22"/>
            <p:cNvSpPr/>
            <p:nvPr/>
          </p:nvSpPr>
          <p:spPr>
            <a:xfrm>
              <a:off x="183492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>
              <a:off x="182880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187308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Line 25"/>
          <p:cNvSpPr/>
          <p:nvPr/>
        </p:nvSpPr>
        <p:spPr>
          <a:xfrm>
            <a:off x="2438280" y="436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3354480" y="3830760"/>
            <a:ext cx="37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ниципальный уров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202752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2438280" y="5278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2921400" y="47242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202752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691200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643280" y="2781360"/>
            <a:ext cx="184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78200" y="2781360"/>
            <a:ext cx="434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0" y="115920"/>
            <a:ext cx="7812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3851280" y="3645000"/>
            <a:ext cx="52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нормативно-правовые докум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ОССИЙСКОЙ ФЕДЕРАЦИИ  (с учетом поправок, внесенных Законами Российской Федерации о поправках к Конституции Российской Федерации от 30.12.2008 N 6-ФКЗ и от 30.12.2008 N 7-ФК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«Об образовании» №273-ФЗ от 21.12.2012 г (о программах ст.12,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азвития дополнительного образования детей , утверждённая распоряжением правительства РФ от 04.09.2014 г. №1726-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образования РФ от 18.06.2003 г. № 28-02-484/16 «Требования к  образовательным программам для учреждений дополнительного образования детей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образования РФ от 11.12.2006 г. № 06-1844 « О примерных требованиях к программам дополнительного образования дете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рганизации и осуществления образовательной деятельности по дополнительным  общеобразовательным программам, утвержден приказом Министерства образования и науки Российской Федерации от 29 августа 2013 г. N 1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 –эпидемиологические требования к устройству, содержанию и организации режима работы образовательных организаций дополнительного образования детей  «Санитарно-эпидемиологические правила и нормативы» (СанПиН 2.4.4.3172-14),  утверждены постановлением Главного государственного санитарного врача Российской Федерации от 04.07.2014 N 4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0880" y="6858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 о лицензировании образовательной деятельности  от 28 октября 2013 г. N 96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духовно-нравственного развития и воспитания личности гражданина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проведению независимой системы оценки качества работы образовательных организаций от 14.10.2013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РФ. Письмо от 07.02.2001г. №22-06-147 «О содержании и правовом обеспечении должностного контроля руководителей образовательных учреждени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 «Наша новая школа»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тверждена Президентом Российской Федер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истерства образования и науки Российской Федерации от № 09-889 от 22.07.201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размещении на официальном сайте информац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Ф. Приказ от 29.08.2013г. № 1008 «Об утверждении порядка организации и осуществления образовательной деятельности по дополнительным образовательным программ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оссийской Федерации  Департамент государственной политики в сфере общего образования  Письмо от 5 августа 2013 года № 08-1030 О стимулировании педагогических работников, работающих с детьми и молодежью, проявляющими выдающиеся способн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оссийской Федерации от 5 августа 2013 г. N 662 г. Москва "Об осуществлении мониторинга системы образования" Вступил в силу:1 сентября 2013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1 марта 2011 г. N 164 "Об осуществлении государственного контроля (надзора) в сфере образования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2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ые нормативно-правовые докум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Челябинской области от 29 августа 2013 г. N 513-ЗО "Об образовании в Челябинской обла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рограмма Челябинской области, «Развитие образования в Челябинской области» на 2014–2015 годы», утверждена постановлением Правительства Челябинской области, от 22.11.2013 г. № 328-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егиональной системы оценки качества образования Челябинской области, утверждённая приказом Министерства  образования и науки Челябинской области от 28.03.2013 г. № 03-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Челябинской области « Об административном регламенте по предоставлению государственной услуги по предоставлению информации об организации предоставления общего образования и дополнительного образования в государственных образовательных организациях Челябинской области», от 26.06.2013г., №119-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Челябинской области об охране и защите прав детей в Челябинской области. Принят постановлением Законодательного собрания от 29 ноября 2001 г. N 3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Челябинской области  о системе профилактики безнадзорности и правонарушений несовершеннолетних в ЧО. Принят постановлением Законодательного собрания Челябинской области от 28 ноября 2002 г. N 7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рмативно-правовые докумен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качества предоставления муниципальной услуги «Предоставление дополнительного образования детей в муниципальных образовательных организациях, подведомственных Управлению образования администрации  Озерского  городского округа»,  утверждённого постановлением администрации ОГО от 29.05.2014 года №155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об организации предоставления дополнительного образования детей в муниципальных образовательных организациях на территории  Озерского городского округа, утверждённое собранием депутатов ОГО №150 от 18.09 2013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№ 102 от 20.01.2014 администрации ОГО от 11.07.2012 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лана мероприятий («дорожная карта») «Изменения в отраслях социальной сферы, направленные на повышение эффективности образования и науки» в Озерском городском округе в части обеспечения доступности дошкольного, начального общего, основного общего, среднего общего и дополнительного образования 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администрации ОГО от 20.01.2014г., №102 об утверждении муниципальной программы «Профилактика преступлений и правонарушений на территории Озерского городского округа» на 2014 год и плановый период 2015 - 2016 годо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№ 3598 от 15.11.2013  Об утверждении перечня муниципальных услуг, предоставляемых в Озерском городском округе Челябинской области, подлежащих мониторингу качества предост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0880" y="6858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администрации ОГО №1654 от 05.06.2013 г. «Об утверждении комплекса мер по модернизации общего образования в ОГО на 2013-2020 год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Управления образования администрации ОГО от 27.12.2013 №532 ахд г. «Об утверждении муниципальной оценки качества образования в ОГ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Управления образования администрации ОГО от10.09.2013 г. №367 ахд «Об утверждении единой структуры программы развития образовательной организац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задание 312/004 от 30.12.13 «Обучение по программам дополнительного образования различной направленнос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регламент предоставления муниципальной услуги «Предоставление информации об образовательных программах и учебных планах, рабочих программах учебных курсов, предметов, дисциплин (модулей), годовых календарных учебных графиках»,  утверждённого постановлением администрации ОГО от 23.06.2014 года №19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регламент предоставления муниципальной услуги «Зачисление в образовательное учреждение»,  утверждённого постановлением администрации ОГО от 23.06.2014 года №19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2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26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правовые акты (постановлен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480" y="142848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ложения об оплате труда работников муниципальных образовательных организаций всех типов, функции и полномочия учредителя, в отношении которых осуществляет Управление образования администрации Озерского городского округ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оложения об организации и проведении конкурса на замещение вакантной должности руководителя муниципальной образовательной организации, расположенной на территории Озерского городского округ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стандарта качества предоставления муниципальной услуги «Предоставление дополнительного образования детей в муниципальных образовательных организациях, подведомственных Управлению образования администрации Озерского городского округ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3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6095880" y="62676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5562720" y="3324240"/>
            <a:ext cx="2538360" cy="2666880"/>
          </a:xfrm>
          <a:custGeom>
            <a:avLst/>
            <a:gdLst>
              <a:gd name="textAreaLeft" fmla="*/ 123840 w 2538360"/>
              <a:gd name="textAreaRight" fmla="*/ 2414520 w 2538360"/>
              <a:gd name="textAreaTop" fmla="*/ 123840 h 2666880"/>
              <a:gd name="textAreaBottom" fmla="*/ 2543040 h 2666880"/>
            </a:gdLst>
            <a:ahLst/>
            <a:rect l="textAreaLeft" t="textAreaTop" r="textAreaRight" b="textAreaBottom"/>
            <a:pathLst>
              <a:path w="21600" h="22693">
                <a:moveTo>
                  <a:pt x="3600" y="0"/>
                </a:moveTo>
                <a:arcTo wR="3600" hR="3600" stAng="16200000" swAng="-5400000"/>
                <a:lnTo>
                  <a:pt x="0" y="19093"/>
                </a:lnTo>
                <a:arcTo wR="3600" hR="3600" stAng="10800000" swAng="-5400000"/>
                <a:lnTo>
                  <a:pt x="18000" y="22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684360" y="3141720"/>
            <a:ext cx="2744640" cy="2849400"/>
          </a:xfrm>
          <a:custGeom>
            <a:avLst/>
            <a:gdLst>
              <a:gd name="textAreaLeft" fmla="*/ 133920 w 2744640"/>
              <a:gd name="textAreaRight" fmla="*/ 2610720 w 2744640"/>
              <a:gd name="textAreaTop" fmla="*/ 133920 h 2849400"/>
              <a:gd name="textAreaBottom" fmla="*/ 2715480 h 2849400"/>
            </a:gdLst>
            <a:ahLst/>
            <a:rect l="textAreaLeft" t="textAreaTop" r="textAreaRight" b="textAreaBottom"/>
            <a:pathLst>
              <a:path w="21600" h="22424">
                <a:moveTo>
                  <a:pt x="3600" y="0"/>
                </a:moveTo>
                <a:arcTo wR="3600" hR="3600" stAng="16200000" swAng="-5400000"/>
                <a:lnTo>
                  <a:pt x="0" y="18824"/>
                </a:lnTo>
                <a:arcTo wR="3600" hR="3600" stAng="10800000" swAng="-5400000"/>
                <a:lnTo>
                  <a:pt x="18000" y="224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900000" y="3141720"/>
            <a:ext cx="259236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ДОКУМЕН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 ДОКУМЕНТЫ ПО ФИНАНСОВОМУ БЛО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 ДОКУМЕНТЫ ПО МАТЕРИАЛЬНО-ТЕХНИЧЕСКОМУ  БЛО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322272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3663f"/>
              </a:gs>
              <a:gs pos="100000">
                <a:srgbClr val="f6cec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9"/>
          <p:cNvSpPr/>
          <p:nvPr/>
        </p:nvSpPr>
        <p:spPr>
          <a:xfrm flipH="1">
            <a:off x="4869000" y="32241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10"/>
          <p:cNvSpPr/>
          <p:nvPr/>
        </p:nvSpPr>
        <p:spPr>
          <a:xfrm flipH="1">
            <a:off x="4874400" y="32274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699de9"/>
              </a:gs>
              <a:gs pos="100000">
                <a:srgbClr val="cfe0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3048120" y="1600200"/>
            <a:ext cx="2998440" cy="1600920"/>
            <a:chOff x="3048120" y="1600200"/>
            <a:chExt cx="2998440" cy="1600920"/>
          </a:xfrm>
        </p:grpSpPr>
        <p:grpSp>
          <p:nvGrpSpPr>
            <p:cNvPr id="150" name="Group 12"/>
            <p:cNvGrpSpPr/>
            <p:nvPr/>
          </p:nvGrpSpPr>
          <p:grpSpPr>
            <a:xfrm>
              <a:off x="3048120" y="1742760"/>
              <a:ext cx="2998440" cy="1458360"/>
              <a:chOff x="3048120" y="1742760"/>
              <a:chExt cx="2998440" cy="1458360"/>
            </a:xfrm>
          </p:grpSpPr>
          <p:sp>
            <p:nvSpPr>
              <p:cNvPr id="151" name="Oval 13"/>
              <p:cNvSpPr/>
              <p:nvPr/>
            </p:nvSpPr>
            <p:spPr>
              <a:xfrm>
                <a:off x="3080880" y="17892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3839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14"/>
              <p:cNvSpPr/>
              <p:nvPr/>
            </p:nvSpPr>
            <p:spPr>
              <a:xfrm>
                <a:off x="3048120" y="17427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6ddab"/>
                  </a:gs>
                  <a:gs pos="100000">
                    <a:srgbClr val="7fb2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Oval 15"/>
            <p:cNvSpPr/>
            <p:nvPr/>
          </p:nvSpPr>
          <p:spPr>
            <a:xfrm>
              <a:off x="318960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3224520" y="16077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0"/>
                  </a:srgbClr>
                </a:gs>
                <a:gs pos="100000">
                  <a:srgbClr val="cbddf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3251520" y="16207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537cb9"/>
                </a:gs>
                <a:gs pos="100000">
                  <a:srgbClr val="699de9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3383280" y="16477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99de9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3852000" y="19162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ПБ О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724360" y="3581280"/>
            <a:ext cx="237672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орядит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ИКАЗ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ПРАВИ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ИНСТР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43912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ормативно-правовые акты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образовательного учрежден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6732720" y="6308640"/>
            <a:ext cx="2232000" cy="549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3:58:03Z</dcterms:created>
  <dc:creator>компьютер 1</dc:creator>
  <dc:description/>
  <dc:language>en-US</dc:language>
  <cp:lastModifiedBy>www.PHILka.RU</cp:lastModifiedBy>
  <dcterms:modified xsi:type="dcterms:W3CDTF">2014-12-10T08:32:38Z</dcterms:modified>
  <cp:revision>46</cp:revision>
  <dc:subject/>
  <dc:title>Нормативно-правовая база – основа деятельности образовательного учреждения</dc:title>
</cp:coreProperties>
</file>