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08B-0ABD-410B-BBF8-B11DE720C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C5A3-D0C6-49C6-A03F-E72CD1C5E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E18-FA48-4CA8-B791-944B60AE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E11-1945-4628-951A-5A2535C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7EE-011A-4B38-9F83-AAD16416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0C2-A7ED-4133-BD87-B5DB4011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3AB-A773-4DF3-8A31-2CDA0011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2E57-6858-4A3B-A26A-952B875B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B16-B0D6-4DC5-AFD5-54E3DEE6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F4D-7C6F-490C-8F9A-BBCC245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545-3C94-4DD3-A49A-D5F1F0BF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5791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62E5-3764-4437-BA10-2A1A1EF9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EED-DA9A-434F-ACFE-ADF75C9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098-332E-486F-9D15-90C8E62E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57DD-4414-4FDA-BD9D-2750806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33AC-CF1B-41F5-AC04-3CF94ED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9C6A-17D9-4115-85DD-615B6E45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8EB-FFC8-4614-BD09-A7E09508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6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96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6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96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4F0-F99B-435A-8576-EF07DE72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C70-7718-4852-9904-DEAC1130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0E2-150E-419B-B563-892E191D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B4A-D41A-475F-9DFD-DEF94B4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5791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D3E-9DD8-436D-9B47-4AA50E5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945-4D96-44B5-97D8-D587BF6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035-1580-40C5-9989-C357768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F9A-EF05-49ED-9198-7C59138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62672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825-0378-4012-8D18-78F39A4C3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5"/>
          <p:cNvSpPr/>
          <p:nvPr/>
        </p:nvSpPr>
        <p:spPr>
          <a:xfrm>
            <a:off x="7924680" y="15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BA69-2B3C-4EBF-92C0-502A30A5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893080" cy="119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ормативно-правовая база в сфере дополнительного образования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7812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588520" y="3581280"/>
            <a:ext cx="75960" cy="228600"/>
          </a:xfrm>
          <a:prstGeom prst="rect">
            <a:avLst/>
          </a:prstGeom>
          <a:solidFill>
            <a:srgbClr val="e36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356000" y="5516640"/>
            <a:ext cx="4788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372360" y="2276640"/>
            <a:ext cx="2447640" cy="316836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19240" y="1600200"/>
            <a:ext cx="6297480" cy="4495680"/>
          </a:xfrm>
          <a:prstGeom prst="rightArrow">
            <a:avLst>
              <a:gd name="adj1" fmla="val 79306"/>
              <a:gd name="adj2" fmla="val 34695"/>
            </a:avLst>
          </a:prstGeom>
          <a:gradFill rotWithShape="0">
            <a:gsLst>
              <a:gs pos="0">
                <a:srgbClr val="e0e0e0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95280" y="2209680"/>
            <a:ext cx="46814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СТАВ – свод правил, положе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пределяющих построение и деятельно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и, права и обязанности ее чле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95280" y="3352680"/>
            <a:ext cx="46814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держание Устава регламентиру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ом РФ «Об образован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324000" y="4508640"/>
            <a:ext cx="50400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3663f"/>
              </a:gs>
              <a:gs pos="100000">
                <a:srgbClr val="692f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ав разрабатывается и принимается коллекти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разовательного учреждения для внесения его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тверждение» (Закон «Об образовании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300720" y="3200400"/>
            <a:ext cx="251928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В -важнейший юридический документ ОУ, определяющий его статус, отношения с учредителем и всеми участниками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39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рганизационно-правовые документы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9360">
            <a:solidFill>
              <a:srgbClr val="699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5580000" y="-819000"/>
            <a:ext cx="2232000" cy="14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391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ы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78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нутреннего трудового рас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нутреннего распорядка для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готовности ОО к 2014-15 учебному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120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учреж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1356840"/>
            <a:ext cx="4077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 схема МБУ ДО «ДТДиМ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правления МБУ ДО «ДТДи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административн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етодическ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на 2014-16 г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внутреннем контр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публичного от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плате труда работников ДТД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внутренней системы оценки качества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само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щего собрания трудового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Совета Учре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педагогическ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попечительского со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33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120" y="1285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бработке и защите персональных данных работников и обучающих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учебных кабинетах и помещ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фициального  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по антивирусной и парольной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етодического объеди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тдела декоративно-прикладного твор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тдела клубов по месту житель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тдела музык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тдела художествен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Новогорненского филиала «Дружб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о методической службе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муз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внутренней системы оценки качества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оздоровительного лагеря «Звёздочка», «Орлёнок», «Отважны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аттестации педагогических работников на соответствие занимаемой дол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комиссии по регулированию споров между участниками образовательных 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лате труд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учреж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520" y="1447560"/>
            <a:ext cx="4077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це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режима занятий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риёме обучающихся в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и основания перевода, отчисления и восстановления 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формах получения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промежуточной аттестации 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663f"/>
              </a:gs>
              <a:gs pos="100000">
                <a:srgbClr val="692f1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51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полнительные (в т.ч. платные) образовательные услуги (нормативно-правовые а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1116000" y="2708280"/>
            <a:ext cx="2089080" cy="302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 – право, а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ающего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3492360" y="2708280"/>
            <a:ext cx="2087640" cy="2952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и не мог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ть оказ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нансиру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счет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5867280" y="2708280"/>
            <a:ext cx="2521080" cy="2952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и оказыв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основе дого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 соответств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Правил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утв. Правительст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Ф от 15.08.2013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62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образовательные услуги (нормативно-правовые а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Ф. Постановление от 15.08.2013г. № 706 «Об утверждении правил оказания платных образовательных услу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 об оказании платных дополнительных образовательных услу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орядке осуществления приносящей доход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(КРАТКОСРОЧНЫЕ) ДОКУМЕНТЫ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24000" y="1484280"/>
            <a:ext cx="7056360" cy="215892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ФИНАНСОВО-ЭКОНОМИЧЕСКОМУ 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е штатное расписание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ификационная ведомость работников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ета ОУ по бюджетным ассигнованиям на финансовый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по платным дополнительным услугам на учебный год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195640" y="3716280"/>
            <a:ext cx="6491160" cy="227988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МАТЕРИАЛЬНО-ТЕХНИ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спорт  (акт) готовности ОУ к новому учебному год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на техническое обслуживание зд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с охранным агентством на уч.год и копия лицензии на охранную деятель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с поликлиникой по медицинскому обслуживанию обучающихся на уч.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(КРАТКОСРОЧНЫЕ) ДОКУМЕНТЫ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0760" y="1428840"/>
            <a:ext cx="417672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РАЗОВАТЕЛЬН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ингент обучающихся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ОУ с образовательными, культурными,  научными  и др. учреждениями на учебный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500720" y="2421000"/>
            <a:ext cx="418140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УПРАВЛЕН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ы проверок и обследований ОУ вышестоящими и др. организациями за учебный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547640" y="3789360"/>
            <a:ext cx="5689800" cy="23036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РАБОТЕ С КАДРАМИ И ПРОГРАММНО-МЕТОДИ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е учебные планы ОУ на учебный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сованные программы обучения по предмета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по обеспечению учебниками, учебно-методической и художественной литератур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ы научно-экспериментальной деятельности О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9144000" y="658332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476280"/>
          <a:ext cx="8785440" cy="588312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24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ИНАНСОВО-ЭКОНОМИЧЕСК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я о порядке установления доплат и надбавок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рядке премирования работнико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редоставлении платных дополнительных услуг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печительском Совет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УПРАВЛЕНЧЕСК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едагогическом совет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я о структурных подразделениях ОУ (методическом совете, предметных комиссиях, лаборатории, библиотеке 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65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АТЕРИАЛЬНО-ТЕХНИЧЕСКОМУ БЛ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штабе ГО и ЧС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охране труда и ТБ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медицинской служб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БОТЕ С КАДРАМИ И ПРОГРАММНО-МЕТОДИЧЕСКОМУ БЛ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аттестации педагогических работнико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методической работе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5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ОБРАЗОВАТЕЛЬН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рядке приема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ромежуточной аттестаци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итоговой аттестации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кураторе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ОТИВАЦИОНН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сихологической служб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5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3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ая база МБУ ДО «ДТДиМ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947960"/>
            <a:ext cx="762120" cy="664920"/>
            <a:chOff x="1828800" y="1947960"/>
            <a:chExt cx="762120" cy="664920"/>
          </a:xfrm>
        </p:grpSpPr>
        <p:sp>
          <p:nvSpPr>
            <p:cNvPr id="98" name="AutoShape 4"/>
            <p:cNvSpPr/>
            <p:nvPr/>
          </p:nvSpPr>
          <p:spPr>
            <a:xfrm>
              <a:off x="183492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92f1d"/>
                </a:gs>
                <a:gs pos="100000">
                  <a:srgbClr val="e3663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862360"/>
            <a:ext cx="761760" cy="664920"/>
            <a:chOff x="1828800" y="2862360"/>
            <a:chExt cx="761760" cy="664920"/>
          </a:xfrm>
        </p:grpSpPr>
        <p:sp>
          <p:nvSpPr>
            <p:cNvPr id="102" name="AutoShape 8"/>
            <p:cNvSpPr/>
            <p:nvPr/>
          </p:nvSpPr>
          <p:spPr>
            <a:xfrm>
              <a:off x="183492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557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356280" y="202392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4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356280" y="29383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754440"/>
            <a:ext cx="762120" cy="665280"/>
            <a:chOff x="1828800" y="3754440"/>
            <a:chExt cx="762120" cy="66528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92f1d"/>
                </a:gs>
                <a:gs pos="100000">
                  <a:srgbClr val="e3663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668840"/>
            <a:ext cx="761760" cy="665280"/>
            <a:chOff x="1828800" y="4668840"/>
            <a:chExt cx="761760" cy="66528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36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354480" y="38307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278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2921400" y="47242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691200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643280" y="2781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78200" y="2781360"/>
            <a:ext cx="434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7812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3851280" y="3645000"/>
            <a:ext cx="52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  (с учетом поправок, внесенных Законами Российской Федерации о поправках к Конституции Российской Федерации от 30.12.2008 N 6-ФКЗ и от 30.12.2008 N 7-ФК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бразовании» №273-ФЗ от 21.12.2012 г (о программах ст.12,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вития дополнительного образования детей , утверждённая распоряжением правительства РФ от 04.09.2014 г. №1726-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Ф от 18.06.2003 г. № 28-02-484/16 «Требования к  образовательным программам для учреждений дополнительного образования дете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Ф от 11.12.2006 г. № 06-1844 « О примерных требованиях к программам дополнительного образования дет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рганизации и осуществления образовательной деятельности по дополнительным  общеобразовательным программам, утвержден приказом Министерства образования и науки Российской Федерации от 29 августа 2013 г. N 1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 –эпидемиологические требования к устройству, содержанию и организации режима работы образовательных организаций дополнительного образования детей  «Санитарно-эпидемиологические правила и нормативы» (СанПиН 2.4.4.3172-14),  утверждены постановлением Главного государственного санитарного врача Российской Федерации от 04.07.2014 N 4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 лицензировании образовательной деятельности  от 28 октября 2013 г. N 9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духовно-нравственного развития и воспитания личности гражданина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проведению независимой системы оценки качества работы образовательных организаций от 14.10.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РФ. Письмо от 07.02.2001г. №22-06-147 «О содержании и правовом обеспечении должностного контроля руководителей образовательных учрежде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 «Наша новая школа»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верждена Президентом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№ 09-889 от 22.07.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азмещении на официальном сайте информ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. Приказ от 29.08.2013г. № 1008 «Об утверждении порядка организации и осуществления образовательной деятельности по дополнительным образовательным программ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  Департамент государственной политики в сфере общего образования  Письмо от 5 августа 2013 года № 08-1030 О стимулировании педагогических работников, работающих с детьми и молодежью, проявляющими выдающиеся способ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оссийской Федерации от 5 августа 2013 г. N 662 г. Москва "Об осуществлении мониторинга системы образования" Вступил в силу:1 сентября 2013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1 марта 2011 г. N 164 "Об осуществлении государственного контроля (надзора) в сфере образова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2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е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от 29 августа 2013 г. N 513-ЗО "Об образовании в Челяби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рограмма Челябинской области, «Развитие образования в Челябинской области» на 2014–2015 годы», утверждена постановлением Правительства Челябинской области, от 22.11.2013 г. № 328-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егиональной системы оценки качества образования Челябинской области, утверждённая приказом Министерства  образования и науки Челябинской области от 28.03.2013 г. № 03-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Челябинской области « Об административном регламенте по предоставлению государственной услуги по предоставлению информации об организации предоставления общего образования и дополнительного образования в государственных образовательных организациях Челябинской области», от 26.06.2013г., №119-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об охране и защите прав детей в Челябинской области. Принят постановлением Законодательного собрания от 29 ноября 2001 г. N 3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 о системе профилактики безнадзорности и правонарушений несовершеннолетних в ЧО. Принят постановлением Законодательного собрания Челябинской области от 28 ноября 2002 г. N 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качества предоставления муниципальной услуги «Предоставление дополнительного образования детей в муниципальных образовательных организациях, подведомственных Управлению образования администрации  Озерского  городского округа»,  утверждённого постановлением администрации ОГО от 29.05.2014 года №15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рганизации предоставления дополнительного образования детей в муниципальных образовательных организациях на территории  Озерского городского округа, утверждённое собранием депутатов ОГО №150 от 18.09 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№ 102 от 20.01.2014 администрации ОГО от 11.07.2012 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лана мероприятий («дорожная карта») «Изменения в отраслях социальной сферы, направленные на повышение эффективности образования и науки» в Озерском городском округе в части обеспечения доступности дошкольного, начального общего, основного общего, среднего общего и дополнительного образования 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ОГО от 20.01.2014г., №102 об утверждении муниципальной программы «Профилактика преступлений и правонарушений на территории Озерского городского округа» на 2014 год и плановый период 2015 - 2016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№ 3598 от 15.11.2013  Об утверждении перечня муниципальных услуг, предоставляемых в Озерском городском округе Челябинской области, подлежащих мониторингу качества предост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8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ОГО №1654 от 05.06.2013 г. «Об утверждении комплекса мер по модернизации общего образования в ОГО на 2013-2020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правления образования администрации ОГО от 27.12.2013 №532 ахд г. «Об утверждении муниципальной оценки качества образования в ОГ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правления образования администрации ОГО от10.09.2013 г. №367 ахд «Об утверждении единой структуры программы развития образовательной организа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задание 312/004 от 30.12.13 «Обучение по программам дополнительного образования различной направлен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регламент предоставления муниципальной услуги «Предоставление информации об образовательных программах и учебных планах, рабочих программах учебных курсов, предметов, дисциплин (модулей), годовых календарных учебных графиках»,  утверждённого постановлением администрации ОГО от 23.06.2014 года №19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регламент предоставления муниципальной услуги «Зачисление в образовательное учреждение»,  утверждённого постановлением администрации ОГО от 23.06.2014 года №19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авовые акты (постановлен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142848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ложения об оплате труда работников муниципальных образовательных организаций всех типов, функции и полномочия учредителя, в отношении которых осуществляет Управление образования администрации Озерского городского окру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ложения об организации и проведении конкурса на замещение вакантной должности руководителя муниципальной образовательной организации, расположенной на территории Озерского городского округ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ндарта качества предоставления муниципальной услуги «Предоставление дополнительного образования детей в муниципальных образовательных организациях, подведомственных Управлению образования администрации Озерского городского округ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5562720" y="3324240"/>
            <a:ext cx="2538360" cy="2666880"/>
          </a:xfrm>
          <a:custGeom>
            <a:avLst/>
            <a:gdLst>
              <a:gd name="textAreaLeft" fmla="*/ 123840 w 2538360"/>
              <a:gd name="textAreaRight" fmla="*/ 2414520 w 2538360"/>
              <a:gd name="textAreaTop" fmla="*/ 123840 h 2666880"/>
              <a:gd name="textAreaBottom" fmla="*/ 2543040 h 266688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84360" y="3141720"/>
            <a:ext cx="2744640" cy="284940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849400"/>
              <a:gd name="textAreaBottom" fmla="*/ 2715480 h 2849400"/>
            </a:gdLst>
            <a:ahLst/>
            <a:rect l="textAreaLeft" t="textAreaTop" r="textAreaRight" b="textAreaBottom"/>
            <a:pathLst>
              <a:path w="21600" h="22424">
                <a:moveTo>
                  <a:pt x="3600" y="0"/>
                </a:moveTo>
                <a:arcTo wR="3600" hR="3600" stAng="16200000" swAng="-5400000"/>
                <a:lnTo>
                  <a:pt x="0" y="18824"/>
                </a:lnTo>
                <a:arcTo wR="3600" hR="3600" stAng="10800000" swAng="-5400000"/>
                <a:lnTo>
                  <a:pt x="18000" y="22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00000" y="3141720"/>
            <a:ext cx="25923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ДОКУМЕН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 ДОКУМЕНТЫ ПО ФИНАНСОВОМУ БЛО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 ДОКУМЕНТЫ ПО МАТЕРИАЛЬНО-ТЕХНИЧЕСКОМУ  БЛО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663f"/>
              </a:gs>
              <a:gs pos="100000">
                <a:srgbClr val="f6ce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6ddab"/>
                  </a:gs>
                  <a:gs pos="100000">
                    <a:srgbClr val="7fb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852000" y="1916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ПБ 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724360" y="3581280"/>
            <a:ext cx="23767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оряди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КАЗ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39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ормативно-правовые акты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58:03Z</dcterms:created>
  <dc:creator>компьютер 1</dc:creator>
  <dc:description/>
  <dc:language>en-US</dc:language>
  <cp:lastModifiedBy>www.PHILka.RU</cp:lastModifiedBy>
  <dcterms:modified xsi:type="dcterms:W3CDTF">2014-12-10T08:32:38Z</dcterms:modified>
  <cp:revision>46</cp:revision>
  <dc:subject/>
  <dc:title>Нормативно-правовая база – основа деятельности образовательного учреждения</dc:title>
</cp:coreProperties>
</file>