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A58-A826-4AE1-9836-BF54E0F6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276-CF1A-4D54-91F9-485AB88C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D6F-59A4-4AE1-A9C2-4148D306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D67-B40F-4061-90A4-9804B29E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38E1-8D28-4F58-A7F8-B76B10D4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CFA0-28EB-4526-B284-C3C9BCEB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BD17-0F41-424E-B503-3BF548BD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E1CA-84F4-4278-AB68-4306B46A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09BE-522D-4ABC-963E-DC904F77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CF87-08B3-4C6A-A626-B5576240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1319-EDA6-4C39-9ABC-4F1A070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E7D-08E7-42C4-8966-D44F6038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6FCB-ECC0-4EE0-9DF9-E65557A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3F0D-53CA-477D-B55D-F2B0A0A0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B4E8-0578-4F64-9F1F-80D8893E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8025-E136-4B99-A074-749EBCAE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DAFB-E660-4007-A5E7-0608EC56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1B0-2475-47D0-93DF-3A76254B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B2B-AFEA-4EF4-A13A-FA994A01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56B-163B-4E5E-BB94-D689DAB1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AAB-B960-4762-9114-7DB21339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703-76B9-41FB-A304-400EAEB0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C6C-4B37-41B0-96BA-C9EA38D3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9F1-CA54-4D6E-B843-2990097A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A3D9-9763-44F6-8024-A565428AB7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CDCF-5A63-443F-AD80-352E1316BA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42920" y="404640"/>
            <a:ext cx="74898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аш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ески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тенциал"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76720" y="386064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58644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сли вы набрали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3 и менее очков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К сожалению, ваш творческий потенциал невелик. Скорее всего, вы просто недооценили себя и свои способности? Неуверенность в своих силах заставляет вас думать, что вы не способны к творчеству. Поднимите свою самооценку и решите эту пробл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44512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сли у вас от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 до 48 очков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У вас  нормальный творческий потенциал. Вы обладаете качествами, которые позволяют вам заниматься творчеством, но, у вас есть и проблемы, которые замедляют процесс творчества. Если вы пожелаете, ваш творческий потенциал позволит проявить себя в люб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19796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сли вы набрали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9 и более очков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В вас присутствует значительный творческий потенциал, который предоставляет вам богатый выбор творческих возможностей. Если вы сможете применить ваши способности на деле, то вам станут доступными самые разнообразные формы твор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40860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. Считаете ли вы, что окружающий вас мир мож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ыть  улучше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ет, он и так достаточно хорош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да, но только кое в ч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37096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 Вы сами можете участвовать в значительных изменениях окружающей вас сре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, в большинстве случа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да, в некоторых случа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3725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. Верно ли, что некоторые из ваших идей прине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ы значительный прогресс в сфере вашей деятель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да, при благоприятных обстоятельств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в некоторой степ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2196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. Считаете  ли  вы,   что  в  будущем   будете   игр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столь важную роль, что сможете принципиально что-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измен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, наверня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маловероят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возмож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46924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5. Когда вы решаете предпринять какое-то действ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уверены ли вы, что осуществите свое начин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часто сомневаюс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3819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6. Испытываете ли вы желание заняться делом, которое абсолютно не знае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, неизвестное вас привлека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еизвестное вас не интересу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все зависит от характера этого д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30204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7. Вам   приходится   заниматься   незнакомым  д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Испытываете  ли  вы   желание добиться в нём   совершен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удовлетворитесь тем, чего добилис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да, если вам это нрави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6308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8. Если дело, которое вы не знаете, вам нравится ,хотите ли вы знать о нем вс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ет, вы хотите научиться только самому основно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нет, вы только хотите удовлетворить своё любопыт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189000"/>
            <a:ext cx="8280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9. Когда вы терпите неудачу, 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какое-то   время   упорствуете   вопреки   здравому смысл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махнете рукой на эту затею, так как понимаете, что она нереаль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продолжаете делать свое де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72484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0. По-вашему, профессию надо выбирать, исходя и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) своих возможностей, дальнейших перспектив для себ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) стабильности, значимости профессии, потребности в н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) преимуществ, которые она обеспеч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22896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1. Путешествуя, могли бы вы легко ориентироваться на маршруте, по которому уже прош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ет, боитесь сбиться с пу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да, но только там, где местность вам понравила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3724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2. Сразу же после какой-то беседы можете ли вы вспомнить все, что говорило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, без тру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чаще вспомнить не може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запоминаете только то, что вас интересу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66632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3. Когда вы слышите слово на незнакомом вам языке, то можете повторить его без ошиб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, без затрудн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да, если это слово легко запомни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да, но не совсем прави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1738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4. В свободное время вы предпочитае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оставаться наедине, поразмысли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аходиться в комп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вам это безразлич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77660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5. Вы    занимаетесь    каким-либо    делом.    Решаете прекратить это занятие, ког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ело  закончено  и   кажется   вам   отлично   выполнен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вы более-менее доволь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вам еще не удалось все сдел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072680"/>
            <a:ext cx="817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6. Когда вы одни, 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любите  мечтать  о  каких-то   абстрактных   вещ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пытаетесь найти себе конкретное занят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любите   помечтать  о   вещах,   которые  связаны   с вашей работ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170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7. Когда какая-то идея захватывает вас, то вы станете думать о н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независимо от того, где и с кем  вы  находитес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вы можете делать это только наедин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только там, где будет не слишком шум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39220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8. Когда вы отстаиваете какую-то иде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можете отказаться от нее, если выслушаете убедительные аргументы оппон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останетесь при своем мнении, какие бы аргу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и выслуша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измените  свое   мнение,  если   сопротивление  окажется слишком си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60444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одсчитайте оч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за ответ «а» — 3 о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за «б» — 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за «в» — 2 оч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2412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опросы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,6,7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определяют границы Вашей любознательности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,3,4,5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веру в себя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 и 14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постоянство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амбициозность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зрительную память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, 12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слуховую память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Ваше стремление быть независимым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, 16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способность абстрагироваться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степень сосредоточ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Эти способности и составляют основные качества творческого потенц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Общая сумма набранных баллов покажут уровень Вашего творческого потенц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6:53:59Z</dcterms:created>
  <dc:creator>www.PHILka.RU</dc:creator>
  <dc:description/>
  <dc:language>en-US</dc:language>
  <cp:lastModifiedBy>Михаил</cp:lastModifiedBy>
  <dcterms:modified xsi:type="dcterms:W3CDTF">2012-03-25T10:55:34Z</dcterms:modified>
  <cp:revision>4</cp:revision>
  <dc:subject/>
  <dc:title>Слайд 1</dc:title>
</cp:coreProperties>
</file>