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1E7-D73D-4F53-9AAE-10B39D65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E70-6253-41EF-B621-3C765644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71F-A8FF-46DC-9E37-2DC7AB53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4B3-772D-48AC-A087-4354534E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860A-8619-4670-BD98-FADE9016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D727-B16F-4AAC-8665-454D74E4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0B33-20AB-4112-82F6-B0792A4F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2DEF-3D3F-4136-9118-0D89336F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941E-A860-42F7-8013-B51848CC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2656-FE2A-4D4B-AE7B-F83AAAD2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4BE0-EE30-4821-B1E2-DB77DBEF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18E-1197-48D9-B445-E5A0B934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F06B-54E4-43B0-A734-DF40C94B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B823-7F2E-4560-907F-ABBAEBD5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3201-95F5-4ACB-9BDF-D2B237DE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3750-89EC-4CB6-A6D3-7C863CE5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EC71-2E0E-4654-876B-F3111350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6F3-2F21-4C43-A7B4-089D65AE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093-858C-45B9-9E7C-2B8D1872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479-86C8-4722-AE04-9F6529DF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705-B4C5-4113-A289-AD017652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0EB-CBE1-4C55-9A67-13615C15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B21-AF51-4F9E-855B-A20F96C3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297-6849-464E-BD82-D0077BF2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A5A6-9FCB-44B9-9D26-E8E1EF2137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aaac6"/>
                </a:gs>
                <a:gs pos="50000">
                  <a:srgbClr val="ffffff"/>
                </a:gs>
                <a:gs pos="100000">
                  <a:srgbClr val="aaaac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aaaac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35F2-B1BF-4F51-A751-F7E38C1A0E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29157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42920" y="404640"/>
            <a:ext cx="748980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аш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ворческий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тенциал"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76720" y="386064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58644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сли вы набрали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3 и менее очков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К сожалению, ваш творческий потенциал невелик. Скорее всего, вы просто недооценили себя и свои способности? Неуверенность в своих силах заставляет вас думать, что вы не способны к творчеству. Поднимите свою самооценку и решите эту пробле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445120"/>
            <a:ext cx="849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сли у вас от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4 до 48 очков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У вас  нормальный творческий потенциал. Вы обладаете качествами, которые позволяют вам заниматься творчеством, но, у вас есть и проблемы, которые замедляют процесс творчества. Если вы пожелаете, ваш творческий потенциал позволит проявить себя в люб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197960"/>
            <a:ext cx="849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Если вы набрали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9 и более очков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. В вас присутствует значительный творческий потенциал, который предоставляет вам богатый выбор творческих возможностей. Если вы сможете применить ваши способности на деле, то вам станут доступными самые разнообразные формы творч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408600"/>
            <a:ext cx="82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. Считаете ли вы, что окружающий вас мир мож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ыть  улучше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нет, он и так достаточно хорош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да, но только кое в ч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37096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2. Вы сами можете участвовать в значительных изменениях окружающей вас сре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, в большинстве случае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н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да, в некоторых случа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43725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3. Верно ли, что некоторые из ваших идей прине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ы значительный прогресс в сфере вашей деятель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да, при благоприятных обстоятельств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в некоторой степ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2196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4. Считаете  ли  вы,   что  в  будущем   будете   игр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столь важную роль, что сможете принципиально что-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измен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, наверня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маловероят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возмож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46924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5. Когда вы решаете предпринять какое-то действ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уверены ли вы, что осуществите свое начин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часто сомневаюс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438192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6. Испытываете ли вы желание заняться делом, которое абсолютно не знае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, неизвестное вас привлека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неизвестное вас не интересу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все зависит от характера этого де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30204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7. Вам   приходится   заниматься   незнакомым  де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Испытываете  ли  вы   желание добиться в нём   совершен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удовлетворитесь тем, чего добилис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да, если вам это нрави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263088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8. Если дело, которое вы не знаете, вам нравится ,хотите ли вы знать о нем вс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нет, вы хотите научиться только самому основно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нет, вы только хотите удовлетворить своё любопыт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5280" y="189000"/>
            <a:ext cx="82803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9. Когда вы терпите неудачу, 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какое-то   время   упорствуете   вопреки   здравому смысл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махнете рукой на эту затею, так как понимаете, что она нереаль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продолжаете делать свое де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72484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10. По-вашему, профессию надо выбирать, исходя и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) своих возможностей, дальнейших перспектив для себ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б) стабильности, значимости профессии, потребности в н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) преимуществ, которые она обеспеч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22896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1. Путешествуя, могли бы вы легко ориентироваться на маршруте, по которому уже прошл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нет, боитесь сбиться с пу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да, но только там, где местность вам понравила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37240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2. Сразу же после какой-то беседы можете ли вы вспомнить все, что говорилос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, без тру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чаще вспомнить не може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запоминаете только то, что вас интересу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66632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3. Когда вы слышите слово на незнакомом вам языке, то можете повторить его без ошиб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а, без затрудн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да, если это слово легко запомни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да, но не совсем прави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17388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4. В свободное время вы предпочитае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оставаться наедине, поразмысли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находиться в компа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вам это безразлич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77660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5. Вы    занимаетесь    каким-либо    делом.    Решаете прекратить это занятие, ког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дело  закончено  и   кажется   вам   отлично   выполненны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вы более-менее довольн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вам еще не удалось все сдел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072680"/>
            <a:ext cx="817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6. Когда вы одни, 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любите  мечтать  о  каких-то   абстрактных   вещ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пытаетесь найти себе конкретное занят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любите   помечтать  о   вещах,   которые  связаны   с вашей работ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170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7. Когда какая-то идея захватывает вас, то вы станете думать о не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независимо от того, где и с кем  вы  находитес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вы можете делать это только наедин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только там, где будет не слишком шум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392200"/>
            <a:ext cx="835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18. Когда вы отстаиваете какую-то иде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а) можете отказаться от нее, если выслушаете убедительные аргументы оппон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) останетесь при своем мнении, какие бы аргу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и выслуша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) измените  свое   мнение,  если   сопротивление  окажется слишком си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60444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Подсчитайте очк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за ответ «а» — 3 о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за «б» — 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за «в» — 2 оч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241236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Вопросы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,6,7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определяют границы Вашей любознательности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,3,4,5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веру в себя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 и 14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постоянство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 амбициозность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зрительную память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, 12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слуховую память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Ваше стремление быть независимым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, 16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способность абстрагироваться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- степень сосредоточ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Эти способности и составляют основные качества творческого потенц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Общая сумма набранных баллов покажут уровень Вашего творческого потенци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6:53:59Z</dcterms:created>
  <dc:creator>www.PHILka.RU</dc:creator>
  <dc:description/>
  <dc:language>en-US</dc:language>
  <cp:lastModifiedBy>Михаил</cp:lastModifiedBy>
  <dcterms:modified xsi:type="dcterms:W3CDTF">2012-03-25T10:55:34Z</dcterms:modified>
  <cp:revision>4</cp:revision>
  <dc:subject/>
  <dc:title>Слайд 1</dc:title>
</cp:coreProperties>
</file>