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58D-B130-4BC3-A919-211455BB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F2D-0096-4ACF-A943-F63F9C58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EA3-AF92-4918-A273-5831C0DD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D60-AFB2-4EAB-9BFA-1684629D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315A-07FA-480F-AE9D-E735B503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C8D0-F384-4DEF-B5B7-7C03088F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6D59-ACC9-4EF5-A6C5-560039D3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9060-A322-4CE8-9361-21598B0D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B026-2299-4704-9C7D-71EDADC9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F9EE-6D65-49EB-93E4-89E4A0F7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31DC-2E1E-43CE-8C7E-644C3CA2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C4F-72F2-44D0-A4FC-1F5EACB6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52B6-D1B5-4ECE-AE56-9C80C17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17B5-845E-4286-BC4A-61C78C2E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4E5D-7228-4222-AD82-EE9BF296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514B-01CB-4222-8E0F-33433494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195F-EFAF-4D01-90B9-1963B2FB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9B5-8E1D-404F-AAF2-C01BC6A7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5FA-5A30-448B-BB42-DB7DFFEA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BA9-7E49-4BCA-94B3-CA1FD4AF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B3A-9949-4345-AF98-1A6D2DA8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0D9-E29D-4F5A-BA1A-C0B311D9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CF3-E7ED-4A59-9552-CCBE1DD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2B9-12CE-4230-850D-B8F4298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3756-7375-4A50-A0AD-B40070DCE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C2DA-D25D-41A3-9E98-76971BC158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571320"/>
            <a:ext cx="7815240" cy="29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Учебное занятие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 учреждении дополнительного образования дете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93" name="Рисунок 5" descr="T202u5.jpeg"/>
          <p:cNvPicPr/>
          <p:nvPr/>
        </p:nvPicPr>
        <p:blipFill>
          <a:blip r:embed="rId1"/>
          <a:stretch/>
        </p:blipFill>
        <p:spPr>
          <a:xfrm>
            <a:off x="3143160" y="3357720"/>
            <a:ext cx="2928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 этап - основно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ение знаний и способов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во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ых знаний и способов действий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яют тренировочные  упражнения, задания, которые выполняются самостоятельно деть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бщение и систематизация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целостного представления об объекте изу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остранёнными способами работы являются беседа и практические зад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5 этап - контроль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ыявление качества и уровня овладения знаниями, их коррек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ются тестовые зад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письменного опрос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 и задания различного уровня сложност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епродуктивн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ворческого, поисково-исследовательск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6 этап - итогов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56840"/>
            <a:ext cx="80773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ть анализ и оценку успешности достижения цели и наметить перспективу последующей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едение итогов, результатов занятия. Педагог сообщает ответы на следующие вопросы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 работали ребята на занятии, что нового, какими умениями и навыками овлад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яет ребят за учебную рабо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7 этап - рефлексив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билизация детей на самооценк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оценка детьми своей деятельности, психологического 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оцениваться работоспособность, психологическое состояние, результативность работы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и полезность учебн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8 этап -информацион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я о домашнем задании (если необходимо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структаж по его выполнению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ерспективы следующих занят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еспечение понимания цели содержания и способов выполнения домашнего зад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ка дальнейших занят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чебное занятие - сложнейший психолого-педагогический процесс, к которому предъявляется ряд требований: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детей на доступном для них уровне, в соответствии с их  возможностями и в приемлемом темп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ка не на запоминание учебной информации, а на смысл и практическую значимость полученных зн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и поддержание высокого уровня познавательного интереса и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нение разнообразных методов и средств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благоприятного психологического климата на занят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ора на личностный опыт учащих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инирование собственной исследовательской практики ребёнка над репродуктивным усвоением зн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словия эффективности занятия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390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ость целей и задач (обучающие, воспитательные, развивающие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екватность содержания поставленным целям и задачам, соответствие особенностям детского коллектив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ие способов работы поставленным целям и содержанию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ёткая логика занятия, преемственность этап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ёткая организация начала занятия, мотивация воспитанников на учебную деятельност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лагоприятная психологическая атмосфер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ивная позиция ребёнка (включение каждого ребёнка в деятельность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ное методическое обеспечение и оснащение занятия необходимыми средств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етодика подготовки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чебного занятия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1 этап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нализ предыдущего учебного занятия, поиск ответов на вопро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 этап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ирующий (построение модели будущего занятия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ение места занятия в системе те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ение цели и зада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ение темы и её потенциала как обучающего, так и воспитательног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ение вида занят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думывание этапов и логики занятия, отбор методов работ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бор способов контроля и оценки усвоения материала занят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Методика подготовки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учебного занятия</a:t>
            </a:r>
            <a:endParaRPr b="0" lang="en-US" sz="3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3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беспечение учебного за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дготов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едагога: подбор информационного, познавательного материала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я заня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еспечение учеб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чащихся (подбор, изготовление дидактического, наглядного, раздаточного материала, подготовка задани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овка кабинета, инвентаря, оборудования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Учебное занятие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553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лом под учебным занятием понима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орма организации учебного проце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граниченная временными рамками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полагающая специально организованное педагогом обучение де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ередача им знаний, умений и навыков по конкретному предмету)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результате которого  происходит усвоение детьми этих знаний, формирование и развитие умений и навы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ое занят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это всё то время, которое педагог проводит с детьми, организуя различную деятельность: учебную, воспитательную, досуговую и т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зновид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учающего занятия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Учебные занятия по передаче зн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Учебные занятия по осмыслению детьми знаний и их закре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Учебные занятия по закреплению зн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чебные занятия  формирования умений, применение знаний на практ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Тренировочные учебные занятия (отработка умений и навык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Учебные занятия по обобщению и систематизации зн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Этапы учебного занятия: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ровероч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одготовите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осн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онтро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рефлексивный (самоанализ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итого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информацио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mensi_zakladniskoly.jpg"/>
          <p:cNvPicPr/>
          <p:nvPr/>
        </p:nvPicPr>
        <p:blipFill>
          <a:blip r:embed="rId1"/>
          <a:stretch/>
        </p:blipFill>
        <p:spPr>
          <a:xfrm>
            <a:off x="7072200" y="450072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30592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жд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нят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лича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 другог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меной видов деятельност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одержание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конкретной задач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анием для выделения этапов может служит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воения знаний, который строи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 смена деятельности уча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риятие – осмысление – запоминание – применение – обобщение -  систематиз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 этап - организацион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готовка детей к работе на занят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рганизация начала занят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* создание психологического настроя на учебную деятельнос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* активизация вним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 этап - провероч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ление правильности и осознанности выполнения домашнего задания (если было), выявление пробелов и их коррек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рка домашнего задания (творческого, практического), проверка усвоения знаний предыдущего заня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 этап – подготовительный (подготовка к новому содержанию)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еспечение мотивации и принятие детьми цели учебно-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бщение темы, цели занятия, мотивация к учебной деятельности (познавательная задача, проблемное задание детя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 этап - основно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5532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своение новых знаний и способов действ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еспечение восприятия, осмысления и первичного запоминания связей и отношений в объекте изуч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одержание этап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спользование заданий и вопросов, активизирующих познавательную деятельность обучающихся, объяснение ново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 Первичная проверка понимания матери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а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тановление правильности и осознанности усвоения нового учебного материала, выявление неверных представлений и их коррекц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одержание этап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рименение пробных практических заданий, которые сочетаются с объяснением соответствующих правил или обоснованием способов практической  деятель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03:18Z</dcterms:created>
  <dc:creator>shusharina_gs</dc:creator>
  <dc:description/>
  <dc:language>en-US</dc:language>
  <cp:lastModifiedBy>Никита</cp:lastModifiedBy>
  <dcterms:modified xsi:type="dcterms:W3CDTF">2012-12-12T15:04:22Z</dcterms:modified>
  <cp:revision>50</cp:revision>
  <dc:subject/>
  <dc:title>Учебное занятие  в УДОД</dc:title>
</cp:coreProperties>
</file>