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0BC-DF4F-4D76-B18A-D37949BE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951-30DC-4140-BBEE-3EBF81A1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D2C-409E-469A-B8E7-2BC63B72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2417-C5B0-4FC6-8232-E0C55EBA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C8A6-6483-4B8E-BD00-57A9169D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B508-711C-456D-A955-EA6C8BF2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9D83-AF6B-4DBA-A2E6-2BD103C4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7ABC-96E8-4231-B61E-D2378501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D78A-F531-4A14-B4CA-2EEB9563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79DF-9713-4B3E-998E-07D30869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7DB8-B083-4FE4-A20C-0EB3F1B2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1B9-AD07-49A7-81BE-12BE766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5C02-4CCF-4151-8E9C-9F8DFD8A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78A4-A72B-46BE-ADAB-67501E98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DA84-1AC5-4D80-91FA-B09649BF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EED8-D5FA-42D4-B4BF-AEB843E8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8BE5-BCE2-46FE-A8FC-2BA8AC0B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9B5-4271-4718-A623-FD4FDB23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F34-2A72-4455-BE18-8386014A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F9E-4E11-4652-AE6E-CC65CDEE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B92-FC6B-44FC-8A4C-46BD826F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67A-69DA-4C82-8778-F1062989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5C1-A521-47AC-82C9-38B78E0A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F39-3507-4DDF-8D72-86A04DC1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2217-4E08-452F-A763-36CF09871C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7EF0-8F4F-41C5-AFF9-B4E2E1BEE7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571320"/>
            <a:ext cx="7815240" cy="29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Учебное занятие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 учреждении дополнительного образования дете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93" name="Рисунок 5" descr="T202u5.jpeg"/>
          <p:cNvPicPr/>
          <p:nvPr/>
        </p:nvPicPr>
        <p:blipFill>
          <a:blip r:embed="rId1"/>
          <a:stretch/>
        </p:blipFill>
        <p:spPr>
          <a:xfrm>
            <a:off x="3143160" y="3357720"/>
            <a:ext cx="29289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 этап - основно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епление знаний и способов 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ение усвоения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вых знаний и способов действий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яют тренировочные  упражнения, задания, которые выполняются самостоятельно деть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Times New Roman"/>
              </a:rPr>
              <a:t>4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бщение и систематизация зн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целостного представления об объекте изуч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ространёнными способами работы являются беседа и практические зад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5 этап - контрольны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999720"/>
            <a:ext cx="77724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ыявление качества и уровня овладения знаниями, их коррекц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уются тестовые зад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ы письменного опрос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 и задания различного уровня сложности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епродуктивн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ворческого, поисково-исследовательск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6 этап - итоговы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56840"/>
            <a:ext cx="80773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ть анализ и оценку успешности достижения цели и наметить перспективу последующей рабо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ведение итогов, результатов занятия. Педагог сообщает ответы на следующие вопросы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 работали ребята на занятии, что нового, какими умениями и навыками овлад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ощряет ребят за учебную работ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7 этап - рефлексивны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билизация детей на самооценк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: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оценка детьми своей деятельности, психологического 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оцениваться работоспособность, психологическое состояние, результативность работы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и полезность учебной рабо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57160" y="142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8 этап -информационны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я о домашнем задании (если необходимо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структаж по его выполнению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перспективы следующих занят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еспечение понимания цели содержания и способов выполнения домашнего зада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ка дальнейших занят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чебное занятие - сложнейший психолого-педагогический процесс, к которому предъявляется ряд требований: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детей на доступном для них уровне, в соответствии с их  возможностями и в приемлемом темп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ка не на запоминание учебной информации, а на смысл и практическую значимость полученных зна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и поддержание высокого уровня познавательного интереса и активности дете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нение разнообразных методов и средств обуч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благоприятного психологического климата на занят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ора на личностный опыт учащихс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минирование собственной исследовательской практики ребёнка над репродуктивным усвоением зн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словия эффективности занятия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8390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плексность целей и задач (обучающие, воспитательные, развивающие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екватность содержания поставленным целям и задачам, соответствие особенностям детского коллектив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ответствие способов работы поставленным целям и содержанию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ёткая логика занятия, преемственность этап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ёткая организация начала занятия, мотивация воспитанников на учебную деятельност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лагоприятная психологическая атмосфер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ктивная позиция ребёнка (включение каждого ребёнка в деятельность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ное методическое обеспечение и оснащение занятия необходимыми средств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етодика подготовки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чебного занятия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1 этап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нализ предыдущего учебного занятия, поиск ответов на вопрос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2 этап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ирующий (построение модели будущего занятия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ределение места занятия в системе те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ределение цели и задач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ределение темы и её потенциала как обучающего, так и воспитательного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ределение вида занят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думывание этапов и логики занятия, отбор методов работ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бор способов контроля и оценки усвоения материала занят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Методика подготовки </a:t>
            </a:r>
            <a:br>
              <a:rPr sz="3000"/>
            </a:br>
            <a:r>
              <a:rPr b="1" lang="ru-RU" sz="3000" spc="-1" strike="noStrike">
                <a:solidFill>
                  <a:srgbClr val="ffff00"/>
                </a:solidFill>
                <a:latin typeface="Times New Roman"/>
              </a:rPr>
              <a:t>учебного занятия</a:t>
            </a:r>
            <a:endParaRPr b="0" lang="en-US" sz="3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3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обеспечение учебного за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дготов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едагога: подбор информационного, познавательного материала 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я заня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еспечение учебной 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учащихся (подбор, изготовление дидактического, наглядного, раздаточного материала, подготовка заданий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готовка кабинета, инвентаря, оборудования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5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Учебное занятие</a:t>
            </a:r>
            <a:endParaRPr b="0" lang="en-US" sz="4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553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целом под учебным занятием понимае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форма организации учебного процес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ограниченная временными рамками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едполагающая специально организованное педагогом обучение дет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передача им знаний, умений и навыков по конкретному предмету),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результате которого  происходит усвоение детьми этих знаний, формирование и развитие умений и навы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ое заняти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– это всё то время, которое педагог проводит с детьми, организуя различную деятельность: учебную, воспитательную, досуговую и т.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Разновидности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учающего занятия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Учебные занятия по передаче зн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Учебные занятия по осмыслению детьми знаний и их закреп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Учебные занятия по закреплению зн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чебные занятия  формирования умений, применение знаний на практи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Тренировочные учебные занятия (отработка умений и навык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Учебные занятия по обобщению и систематизации зн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Этапы учебного занятия: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ровероч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подготовите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осн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контро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рефлексивный (самоанализ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итогов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информацион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mensi_zakladniskoly.jpg"/>
          <p:cNvPicPr/>
          <p:nvPr/>
        </p:nvPicPr>
        <p:blipFill>
          <a:blip r:embed="rId1"/>
          <a:stretch/>
        </p:blipFill>
        <p:spPr>
          <a:xfrm>
            <a:off x="7072200" y="4500720"/>
            <a:ext cx="20718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830592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ждый эта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нят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лича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 другого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меной видов деятельност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содержание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конкретной задач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анием для выделения этапов может служит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цесс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воения знаний, который строитс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к смена деятельности учащих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сприятие – осмысление – запоминание – применение – обобщение -  систематиза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 этап - организационны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готовка детей к работе на занят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рганизация начала занят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* создание психологического настроя на учебную деятельнос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* активизация вним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2 этап - проверочны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ление правильности и осознанности выполнения домашнего задания (если было), выявление пробелов и их коррек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рка домашнего задания (творческого, практического), проверка усвоения знаний предыдущего заня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 этап – подготовительный (подготовка к новому содержанию)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еспечение мотивации и принятие детьми цели учебно-познаватель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держание этап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бщение темы, цели занятия, мотивация к учебной деятельности (познавательная задача, проблемное задание детям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 этап - основной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5532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своение новых знаний и способов действи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еспечение восприятия, осмысления и первичного запоминания связей и отношений в объекте изуч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одержание этапа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спользование заданий и вопросов, активизирующих познавательную деятельность обучающихся, объяснение ново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.  Первичная проверка понимания матери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адача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тановление правильности и осознанности усвоения нового учебного материала, выявление неверных представлений и их коррекц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649"/>
              </a:spcBef>
              <a:buClr>
                <a:srgbClr val="6600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Содержание этапа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рименение пробных практических заданий, которые сочетаются с объяснением соответствующих правил или обоснованием способов практической  деятель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2:03:18Z</dcterms:created>
  <dc:creator>shusharina_gs</dc:creator>
  <dc:description/>
  <dc:language>en-US</dc:language>
  <cp:lastModifiedBy>Никита</cp:lastModifiedBy>
  <dcterms:modified xsi:type="dcterms:W3CDTF">2012-12-12T15:04:22Z</dcterms:modified>
  <cp:revision>50</cp:revision>
  <dc:subject/>
  <dc:title>Учебное занятие  в УДОД</dc:title>
</cp:coreProperties>
</file>