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C99-1B30-4173-84A2-DE15890E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6F6-B904-45D8-BD05-FB2F99E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AFA-7A80-49AB-9D49-A40D3BE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D6D-FD46-47CC-974C-FC60324B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BE4E-0E4E-4A7D-A497-037D3AE6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974E-B0B2-462E-9B0D-EE13C5B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D57-E472-44EA-B9CF-61DC3677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11F-726A-4115-A8FD-363A78E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DFB-3911-4108-80DB-92D83BB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5B19-258D-48CE-97A0-EB6E655C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08F-0F6E-476F-B81B-5A2499C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799-3CC3-4A8F-91D6-F8F19C69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D418-9290-42EC-BE90-1EC1176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F830-4F9A-4CEB-9E27-55B7364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A86-7BD2-49DE-B253-4E7341D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7C3E-6157-4EE3-BE03-332E221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D3C-B800-4942-A6F2-ED944B1F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F55-F816-4CF9-A8A1-AF27D0F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116-DB32-4269-AB01-4EC436F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ACC-AC60-4F24-AECB-B67DC74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971-FE4B-430E-AB88-68F4ADB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965-7445-46BB-9EAA-890A8C0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A23-DFBC-4BF3-82D7-B3E4E87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524-A8FB-4623-8B83-069A436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C7FA-1189-471C-9155-9C6D411D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166-5E22-4AE8-8283-2885603BD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549360"/>
            <a:ext cx="61912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ический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инар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аш творческий потенциал"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873520"/>
            <a:ext cx="295272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076720" y="3357720"/>
            <a:ext cx="345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методист ЦДО "Дружба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Дещеня Е.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74412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тво - это деятельность, порождающая нечто качественно новое и отличающаяся неповторимостью, оригинальностью и общественно-исторической уника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ое творчество – активный процесс, направленный на поиск более совершенных форм учебно-воспитательной работы, успеш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х проблем, улучшение качества обучения и воспитания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612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 педагогического творчества - формирование творческой личности, для которой характерна устойчивая, высокого уровня направленность на творчество, творческий стиль в одном или нескольких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256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2538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правильно воспринимать те процессы, которые происходят в мире детей, каждого отдельного ребенка в различных педагогически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анализировать соотношение "цель-средство-результат" применительно к выбору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организовать жизн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требовать и довер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быстро ориентироваться и переключать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играть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оценивать ситуацию с различны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из многообразия педагогических фактов выделить существен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в одной и той же ситуации пользоваться разнородными приемами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точно передавать свои настроения, чувства и мысли словом, мимикой, дви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755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 ряд умений, которыми стремится овладеть педагог. Эти умения во многом характеризуют любую творческую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392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чества современного творческ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66400"/>
            <a:ext cx="8496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мнению педагога и психолога В. Пинна,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Нацеленность на формирование творческой лич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едагогический т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пособность эмпатии (сочувствия, сопере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оощрение педагогом дет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Артис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Умение ставить интересные, неожиданные, занимательные вопросы, создавать проблемн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3009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.А.Коменский говорил: "Тот, кто мало знает, малому может и научи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062000"/>
            <a:ext cx="849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орчество - это не только знания, это и богатый духовный мир человека. Когда человек умеет отличать добро от зла, важное от второстепенного, находить в себе силы для решения поставленных задач. Это и есть выражение нашей духовности. Это дело каждого человека, это и есть важнейшее творчество. Ведь творить - это не обязательно создавать что- то материальное. Каждый человек творит свою личность. Но создает её не в одиночестве, не в пустоте, а общаясь с другими людьми. Богатство творческого педагога в его учениках. Саморазвитие, самореализация, умение и желание учиться и действовать самостоятельно - это те качества, которые воспитывает в учениках творческий педаг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орческий потенциал ученика зависит от творческого потенциала самого педагога, только творческий педагог может развивать творческих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83840"/>
            <a:ext cx="8351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у приходится создавать собственные индивидуальные программы, что стимулирует его творчество. При составлении плана занятия педагог, прежде всего, обращает внимание на то, какие конкретные возможности отдельных детей могут раскрыться и какие методические приемы, обеспечивают это. Трудно найти человека, сознательно посвятившего себя педагогической профессии и не желающего работать творчески. Но чтобы включиться в творчество тому, кто хочет работать с детьми, знания только одной психолого-педагогической теории недостаточно. И это естественно. Педагогу необходимо, прежде всего, разобраться в механизме воспитательного творчества, осознать его источники и движущие силы. Естественно, что большую роль играет тот коллектив, с которым он работ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педагог активен в творческом поиске, то продуктивная деятельность, результат которой заключает в себе реализованную способность работать новаторски, не заставит долго 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этому творчески работающий педагог должен подготовить ребенка к творчеству в учебной работе, развивая его креативность. И если будут получены положительные результаты, то в них успех педагога и его профессиональная по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771480"/>
            <a:ext cx="7993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ыт показывает, что творчество приходит только тогда и только к тем, для кого характерно ценностное отношение к труду, кто стремится к повышению профессиональной квалификации, пополнению знаний и изучению опыта, как отдельных педагогов, так и целых педагогических коллекти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ая деятельность есть процесс и результ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. Пастерна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9:20:26Z</dcterms:created>
  <dc:creator>www.PHILka.RU</dc:creator>
  <dc:description/>
  <dc:language>en-US</dc:language>
  <cp:lastModifiedBy>www.PHILka.RU</cp:lastModifiedBy>
  <dcterms:modified xsi:type="dcterms:W3CDTF">2012-03-22T11:10:52Z</dcterms:modified>
  <cp:revision>2</cp:revision>
  <dc:subject/>
  <dc:title>Слайд 1</dc:title>
</cp:coreProperties>
</file>