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DB2-02CA-43E2-9361-36FAF35A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ADA-0C07-488B-9724-C90C9091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943-1919-4318-B93B-CEABECCE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09E-4485-49DC-A30D-FE07A75F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0FEA-3543-49AF-B7B2-72E751AA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E733-6CA3-428A-B552-44874446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F044-4203-454C-B505-67D428D9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1ADD-A3CA-4F87-A94F-88B1D80F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646E-6BFB-4DF5-9387-F88C66FD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6C5F-B705-48FB-8881-689FF0CF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8563-17FB-4852-8460-E58285D8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91D-BD2C-42EE-BEEF-8B6BAC08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26A8-E25F-42E7-9137-7F6FA75D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9945-C763-47B9-BD0C-F51FB359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7AAC-6CDA-4986-A541-065BCF06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351B-2CB4-4F1A-A9CD-60120C77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B9CD-739D-457B-8B6F-A196F8C6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991-B0DD-462F-99E4-8594B66F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663-8D09-4605-9E3D-E1CF1605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378-539C-4DD3-A507-C70E3383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4BDC-E3A1-49D7-9C6E-ED1D37FF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47D-57FA-4532-8DE1-B68758B3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C6D-6B0B-4F04-8066-74393F5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F64E-3CED-4EFB-A005-1E7EFDD0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7E65-3B3E-4D81-B5C7-AEE23CCC4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3DDB-BC34-4349-9E6D-AB652C094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92360" y="549360"/>
            <a:ext cx="619128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тодический 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минар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33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Ваш творческий потенциал"</a:t>
            </a:r>
            <a:endParaRPr b="0" lang="en-US" sz="1800" spc="1" strike="noStrike">
              <a:ln w="12600">
                <a:solidFill>
                  <a:srgbClr val="333333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2873520"/>
            <a:ext cx="2952720" cy="2520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5076720" y="3357720"/>
            <a:ext cx="345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методист ЦДО "Дружба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Times New Roman"/>
              </a:rPr>
              <a:t>Дещеня Е.Г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744120"/>
            <a:ext cx="8640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ворчество - это деятельность, порождающая нечто качественно новое и отличающаяся неповторимостью, оригинальностью и общественно-исторической уникаль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дагогическое творчество – активный процесс, направленный на поиск более совершенных форм учебно-воспитательной работы, успешное 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дагогических проблем, улучшение качества обучения и воспитания учащих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6120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ль педагогического творчества - формирование творческой личности, для которой характерна устойчивая, высокого уровня направленность на творчество, творческий стиль в одном или нескольких видах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050920" y="2924280"/>
            <a:ext cx="52563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253880"/>
            <a:ext cx="8351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правильно воспринимать те процессы, которые происходят в мире детей, каждого отдельного ребенка в различных педагогически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анализировать соотношение "цель-средство-результат" применительно к выбору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организовать жизнь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требовать и доверя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быстро ориентироваться и переключать вним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играть с дет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оценивать ситуацию с различных стор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из многообразия педагогических фактов выделить существен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в одной и той же ситуации пользоваться разнородными приемами воз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умение точно передавать свои настроения, чувства и мысли словом, мимикой, движ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755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ен ряд умений, которыми стремится овладеть педагог. Эти умения во многом характеризуют любую творческую деятельн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11280" y="3927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чества современного творческ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166400"/>
            <a:ext cx="84960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мнению педагога и психолога В. Пинна,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Нацеленность на формирование творческой личност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едагогический та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Способность эмпатии (сочувствия, сопережи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Поощрение педагогом детского во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Артис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Умение ставить интересные, неожиданные, занимательные вопросы, создавать проблемные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30096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.А.Коменский говорил: "Тот, кто мало знает, малому может и научить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062000"/>
            <a:ext cx="8497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орчество - это не только знания, это и богатый духовный мир человека. Когда человек умеет отличать добро от зла, важное от второстепенного, находить в себе силы для решения поставленных задач. Это и есть выражение нашей духовности. Это дело каждого человека, это и есть важнейшее творчество. Ведь творить - это не обязательно создавать что- то материальное. Каждый человек творит свою личность. Но создает её не в одиночестве, не в пустоте, а общаясь с другими людьми. Богатство творческого педагога в его учениках. Саморазвитие, самореализация, умение и желание учиться и действовать самостоятельно - это те качества, которые воспитывает в учениках творческий педаг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орческий потенциал ученика зависит от творческого потенциала самого педагога, только творческий педагог может развивать творческих уче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483840"/>
            <a:ext cx="83516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дагогу приходится создавать собственные индивидуальные программы, что стимулирует его творчество. При составлении плана занятия педагог, прежде всего, обращает внимание на то, какие конкретные возможности отдельных детей могут раскрыться и какие методические приемы, обеспечивают это. Трудно найти человека, сознательно посвятившего себя педагогической профессии и не желающего работать творчески. Но чтобы включиться в творчество тому, кто хочет работать с детьми, знания только одной психолого-педагогической теории недостаточно. И это естественно. Педагогу необходимо, прежде всего, разобраться в механизме воспитательного творчества, осознать его источники и движущие силы. Естественно, что большую роль играет тот коллектив, с которым он работ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педагог активен в творческом поиске, то продуктивная деятельность, результат которой заключает в себе реализованную способность работать новаторски, не заставит долго ж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этому творчески работающий педагог должен подготовить ребенка к творчеству в учебной работе, развивая его креативность. И если будут получены положительные результаты, то в них успех педагога и его профессиональная побе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771480"/>
            <a:ext cx="79930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ыт показывает, что творчество приходит только тогда и только к тем, для кого характерно ценностное отношение к труду, кто стремится к повышению профессиональной квалификации, пополнению знаний и изучению опыта, как отдельных педагогов, так и целых педагогических коллектив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юбая деятельность есть процесс и результ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. Пастерна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09:20:26Z</dcterms:created>
  <dc:creator>www.PHILka.RU</dc:creator>
  <dc:description/>
  <dc:language>en-US</dc:language>
  <cp:lastModifiedBy>www.PHILka.RU</cp:lastModifiedBy>
  <dcterms:modified xsi:type="dcterms:W3CDTF">2012-03-22T11:10:52Z</dcterms:modified>
  <cp:revision>2</cp:revision>
  <dc:subject/>
  <dc:title>Слайд 1</dc:title>
</cp:coreProperties>
</file>